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B9C-8F1C-45D1-8741-A82EDF0F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99D-1A28-4138-BF83-96F53A2E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C91-8E1C-487D-B933-1E3603A3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D3A-2C2B-4521-BB69-C55D9B3F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8EB-47FE-4AEA-8915-C176B17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00C-A824-4053-9F08-7328849A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2DA-74D1-4CB0-B5A8-55D6EC9E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C67-B174-48F2-AB50-308FB82A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E89-1C16-4B4E-B890-3603384C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B11-8CF8-4EB1-95F8-4DD1175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829-BFEC-447C-BA96-6C296599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61B-461E-4E55-A7ED-8C2E3E2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BF9-3061-418A-ADE6-016BDA2D1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40:26Z</dcterms:created>
  <dc:creator>amit</dc:creator>
  <dc:description/>
  <dc:language>en-US</dc:language>
  <cp:lastModifiedBy>amit</cp:lastModifiedBy>
  <dcterms:modified xsi:type="dcterms:W3CDTF">2008-12-08T18:40:39Z</dcterms:modified>
  <cp:revision>1</cp:revision>
  <dc:subject/>
  <dc:title>מצגת של PowerPoint</dc:title>
</cp:coreProperties>
</file>