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663-82A3-4D29-960A-8F2B71CF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CBC-AE8F-4E76-BB78-86EAD478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3B25-3FBC-4A54-842C-A7F3E716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93EE-ADEC-46FD-9AA5-44F3F57D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D81-C408-46C7-93C2-2787FB08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7676-5614-44A1-9D4A-8F83DE3A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42A8-0847-4145-8B78-5C825A3E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A2FB-AD2F-4869-879D-BCA81683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554-CD9F-44AB-9406-24BEFF89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12B1-A19B-4DF0-B0D9-A8E092A4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00D6-5202-45F5-B807-A6E6DED0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11EA-A020-44A3-8E07-70340F6D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F269-7EF4-4948-8158-CA8BDB2C2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53280" y="2854440"/>
            <a:ext cx="15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Times New Roman"/>
              </a:rPr>
              <a:t>שינוי מגמה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20:29:10Z</dcterms:created>
  <dc:creator>amit</dc:creator>
  <dc:description/>
  <dc:language>en-US</dc:language>
  <cp:lastModifiedBy>amit</cp:lastModifiedBy>
  <dcterms:modified xsi:type="dcterms:W3CDTF">2008-12-31T20:29:40Z</dcterms:modified>
  <cp:revision>1</cp:revision>
  <dc:subject/>
  <dc:title>מצגת של PowerPoint</dc:title>
</cp:coreProperties>
</file>