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FE6-8562-4E67-985A-EB7B583E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A26-8D31-45DF-9431-97C776EA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BBE-DDB4-48D5-B2F1-DBBD4ECC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845-CC18-41A7-A78A-425062CA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CD9-5589-4948-9013-FED6F7E5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1A2-0FFC-49CD-A53E-71FF21E6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FFD-87E6-4D9E-8266-3FD502D1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2D7-8268-46AA-AAB1-77DB4F31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50C-2830-4F94-BDAA-6DFA5E48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FEA-108C-440D-BC1D-B7728743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621-6EF0-44B0-AD25-254375E1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FC5-8EFA-46EA-9EFE-CEE65FD1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B8A1-335A-49E9-962D-6FF402D4C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1:58:52Z</dcterms:created>
  <dc:creator>לבקוביץ נאוה</dc:creator>
  <dc:description/>
  <dc:language>en-US</dc:language>
  <cp:lastModifiedBy>לבקוביץ נאוה</cp:lastModifiedBy>
  <dcterms:modified xsi:type="dcterms:W3CDTF">2009-03-28T11:59:03Z</dcterms:modified>
  <cp:revision>1</cp:revision>
  <dc:subject/>
  <dc:title>מצגת של PowerPoint</dc:title>
</cp:coreProperties>
</file>