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500-CE70-4D68-A26A-E2CBEBC2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03B-1578-428D-9129-A8BA772C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609-E826-40FD-8735-9ADA46F2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3EE-713E-4E75-A362-96847D15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036-2761-4FCE-B218-88B21243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3A9-D092-4A92-82B3-F6E1B115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627-F333-478E-A890-A84E10BD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90B-46B7-4BE5-B7F0-6206C30C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0F3B-CCB7-43AF-9E30-C7150763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948-8D91-462D-9AB4-E701D84B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238-C210-447D-A0DF-9B91CE5B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F30-0E50-41DA-A003-8C55254E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F4C2-4712-4DFA-AFF0-F0C7A21BD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15:49Z</dcterms:created>
  <dc:creator>amit</dc:creator>
  <dc:description/>
  <dc:language>en-US</dc:language>
  <cp:lastModifiedBy>amit</cp:lastModifiedBy>
  <dcterms:modified xsi:type="dcterms:W3CDTF">2009-03-30T15:15:56Z</dcterms:modified>
  <cp:revision>1</cp:revision>
  <dc:subject/>
  <dc:title>מצגת של PowerPoint</dc:title>
</cp:coreProperties>
</file>