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2D4-041B-4554-9ACF-8CFFA0D9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889-F2A6-4C42-BBA4-0EB1265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E5B-8FE8-49C7-BDA9-8CE4F68D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9A7-FF92-41A8-9E8E-5AE8A2BB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209-7A4C-4273-B879-BB94679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620-DEB4-41C0-A187-8B65F611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11E-F8E6-441B-8CF4-5CB0560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D4E-8C5D-465F-B39A-D6D37F8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1CE-6EE1-446B-A33E-CF200435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CCF-D6C8-4CF4-97FF-A207A6A4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F40-5131-437C-A66B-D1A7D1C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29A-79E6-4DC4-BB78-BB21D22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4081-0EBA-4A12-9863-0F0A5C8AA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7:36:21Z</dcterms:created>
  <dc:creator>amit</dc:creator>
  <dc:description/>
  <dc:language>en-US</dc:language>
  <cp:lastModifiedBy>amit</cp:lastModifiedBy>
  <dcterms:modified xsi:type="dcterms:W3CDTF">2009-04-02T17:36:29Z</dcterms:modified>
  <cp:revision>1</cp:revision>
  <dc:subject/>
  <dc:title>מצגת של PowerPoint</dc:title>
</cp:coreProperties>
</file>