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233-4448-43E3-A513-A2EFC99D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A17-4616-4745-BD6A-CE89ACF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CAE-EEF9-47CB-A495-0F2C8173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657-5212-4E7B-BA21-0E1501CA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76B-4089-447D-B546-158085D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3DA-123B-4D6A-8724-CE1ACC49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789-2B17-4985-84E5-A69DB5F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E0F-A120-48D5-AB50-84035D19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2A8-45A4-4E1D-97CF-00E4D6C2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0AD-DBAA-4727-9DDB-B6CA823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AA7-3173-4D14-8A17-70FC249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363-9E88-4223-B90C-33F05240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7E40-9DC6-49EC-B96F-AE355ECF7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2:02:02Z</dcterms:created>
  <dc:creator>amit</dc:creator>
  <dc:description/>
  <dc:language>en-US</dc:language>
  <cp:lastModifiedBy>amit</cp:lastModifiedBy>
  <dcterms:modified xsi:type="dcterms:W3CDTF">2009-04-04T22:02:13Z</dcterms:modified>
  <cp:revision>1</cp:revision>
  <dc:subject/>
  <dc:title>מצגת של PowerPoint</dc:title>
</cp:coreProperties>
</file>