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239-4386-4B3E-A93B-B568F3D5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8B3-502C-4361-A585-BA4FC624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134A-7093-4229-A79C-A113FA00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C294-1E7F-4901-9F46-D54758E9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EDB7-00CF-4010-98B4-8AE4B739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EC12-43DD-4EB6-A39C-B9E09FC0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342C-95D0-435E-B040-0AB8CF9D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0FA-1492-4ABA-A456-89147FBB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9227-FCA6-40FD-AA4E-EA4CD31B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4BE-D11B-4415-B133-2A093C58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EEE-5768-4C8E-A923-AF027E7C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2DB-6687-47BC-BC27-48B92941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6F71-FCBD-4E35-BF7F-CD6B6ED9A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22:31:31Z</dcterms:created>
  <dc:creator>amit</dc:creator>
  <dc:description/>
  <dc:language>en-US</dc:language>
  <cp:lastModifiedBy>amit</cp:lastModifiedBy>
  <dcterms:modified xsi:type="dcterms:W3CDTF">2009-04-04T22:31:41Z</dcterms:modified>
  <cp:revision>1</cp:revision>
  <dc:subject/>
  <dc:title>מצגת של PowerPoint</dc:title>
</cp:coreProperties>
</file>