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BF5-9B0A-455B-996E-D90BFCF0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62A-6753-4B6B-A7D0-93978A17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3B2-F57C-4BC9-8329-9F56D43E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CEF-96A8-4C94-A8B8-6EF10DEC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D02-A993-4F15-907B-FC4CB1B5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87D-A95C-44EF-8F0A-CB6AFEE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A7B-01AE-4308-ACBA-C3409764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3A3-634D-4366-A4EC-3824003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1F2-CB83-45AA-B497-95321FC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818-0CF3-4CEF-8F10-5832C1DD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54E-A886-443A-80CD-8FC213D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E5A-F480-43AB-8FB0-170AD29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EF1-734E-4C43-8F41-F05D02E98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9:21:46Z</dcterms:created>
  <dc:creator>amit</dc:creator>
  <dc:description/>
  <dc:language>en-US</dc:language>
  <cp:lastModifiedBy>amit</cp:lastModifiedBy>
  <dcterms:modified xsi:type="dcterms:W3CDTF">2009-04-06T09:21:57Z</dcterms:modified>
  <cp:revision>1</cp:revision>
  <dc:subject/>
  <dc:title>מצגת של PowerPoint</dc:title>
</cp:coreProperties>
</file>