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11F-0573-44DE-88A9-21330A3C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FC6-5224-449A-A921-86441E7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B19-7DE2-4C89-B48E-EDD69E4C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0DD-6161-4EC7-9F1B-CFA380CB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E0E-C3E5-479A-AAB9-A05516A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E71-FC02-4401-8785-BCDE9E1A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04F-1A96-4193-888F-455EC38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E2B-6E02-4859-9F34-D304AE3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CAB-B74E-43F0-8B0A-61364852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C3C-F65D-420D-91AA-EC8F382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F5D-34D1-4577-8040-9E4FDD3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F96-D3A1-4947-9157-84488F3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F8CF-A7D3-4C33-A76A-FD97E560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321300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pple Garamond"/>
              </a:rPr>
              <a:t>Nina hole</a:t>
            </a:r>
            <a:r>
              <a:rPr b="1" lang="en-US" sz="5400" spc="-1" strike="noStrike">
                <a:solidFill>
                  <a:srgbClr val="ffffff"/>
                </a:solidFill>
                <a:latin typeface="Apple 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24120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33192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29160" y="2720880"/>
            <a:ext cx="5514840" cy="4137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6676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8000" y="1303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age, Museum for International Ceramic Art - 20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360" y="1916280"/>
            <a:ext cx="51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 for everyone – Hungary 2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3822840" cy="2334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3813480" cy="2622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8149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3779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5715000" cy="349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2520" y="1170000"/>
            <a:ext cx="311148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401004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15000" cy="347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715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452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3906720"/>
            <a:ext cx="4427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1640" y="620640"/>
            <a:ext cx="3797640" cy="571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40080" y="620640"/>
            <a:ext cx="450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394160" cy="4584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3182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8920" y="252360"/>
            <a:ext cx="7200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ing poin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donia college campus, USA, 200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3:51:14Z</dcterms:created>
  <dc:creator>rei dishon </dc:creator>
  <dc:description/>
  <dc:language>en-US</dc:language>
  <cp:lastModifiedBy>rei dishon </cp:lastModifiedBy>
  <dcterms:modified xsi:type="dcterms:W3CDTF">2009-04-07T18:43:25Z</dcterms:modified>
  <cp:revision>4</cp:revision>
  <dc:subject/>
  <dc:title>שקופית 1</dc:title>
</cp:coreProperties>
</file>