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DAE-6F4C-4584-A177-2DC2B1BB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EC8-26A6-47A8-9729-3DE585E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DDC-2716-405D-94D5-A0AB9314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009-1753-41A5-86D9-310D3D2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0EF-CDB1-459C-8EF5-EBFDC89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268-3F76-4A0B-B83C-E6A3BC4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7E8-F6E2-46BF-B4A3-723986D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55B-1914-4593-A5A8-C078770C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D4C-FAF8-423A-A712-1C383724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6AB-AC4B-4FE1-9A4E-A398908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75F-AA6D-4DE2-A56F-4C397F1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FAC-28EB-4934-8BAE-95C56DA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F8A-3017-4175-80C4-642D1ECE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21:51:15Z</dcterms:created>
  <dc:creator>amit</dc:creator>
  <dc:description/>
  <dc:language>en-US</dc:language>
  <cp:lastModifiedBy>amit</cp:lastModifiedBy>
  <dcterms:modified xsi:type="dcterms:W3CDTF">2009-04-25T21:51:33Z</dcterms:modified>
  <cp:revision>1</cp:revision>
  <dc:subject/>
  <dc:title>מצגת של PowerPoint</dc:title>
</cp:coreProperties>
</file>