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72C-3D96-4A4E-BD32-D39BB5B4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654-6F29-4F76-B27C-674BCCE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863-4832-42DB-AEDA-377B13A6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3AA-4A98-4E44-9E09-BAB2B049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02B-C9F5-4AD3-8979-83D9041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5A6-E7ED-43D0-B79A-611F5B6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CB0-991E-4CA4-A73F-8600350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51B-9F0A-4337-9B52-FC546959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024-F783-4980-84B5-5974D5FD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DEB-A6F1-4190-85BB-5522B15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F7F-DCA9-499B-B89E-180BF4A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E4B-273F-40BA-A906-A318AAC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16A-425F-47FA-826F-781B29E3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55Z</dcterms:created>
  <dc:creator>amit</dc:creator>
  <dc:description/>
  <dc:language>en-US</dc:language>
  <cp:lastModifiedBy>amit</cp:lastModifiedBy>
  <dcterms:modified xsi:type="dcterms:W3CDTF">2009-05-07T14:09:05Z</dcterms:modified>
  <cp:revision>1</cp:revision>
  <dc:subject/>
  <dc:title>מצגת של PowerPoint</dc:title>
</cp:coreProperties>
</file>