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Forest%20Gump%20-%20Movie%20Theme.wav" ContentType="audio/x-wav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9A8-432A-496D-A1D1-B39EFD7F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0FC-15E0-4918-8F59-653A5F20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25D-889B-4568-93B4-5053BE44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6AC-FF63-4943-A731-98C48C43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767F-16AA-4276-9244-76B3A5C0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B66-494A-4E01-B1DB-CAEAF96A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A02-CB78-4019-9310-749DD7AE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6A8-E848-40D7-8820-EE4B5C6A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930-3552-4688-8314-7C7DF720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4724-5888-4C2D-8F79-8A299F8C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18E-F1BA-4953-B5B9-CD5B4D9C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082-CDCA-4DA5-A04E-E961D64F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65e1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0DDB-FC1F-4677-AA8A-9273A2979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Forest%20Gump%20-%20Movie%20Theme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65e1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124640"/>
            <a:ext cx="72234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ttman Yad-Brush"/>
              </a:rPr>
              <a:t> "אמא, הבית שלי מתפרק, הוא ישן ובלוי ולי ולבעלי אין כסף להחליף אותו,   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4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הילדים שלנו מתרוצצים כל היום בחוץ ולא מקדישים מספיק זמן לשיעורי הבית שלה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0080" y="557280"/>
            <a:ext cx="69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Guttman Yad-Brush"/>
              </a:rPr>
              <a:t>אישה כבת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ttman Yad-Brush"/>
              </a:rPr>
              <a:t>4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ttman Yad-Brush"/>
              </a:rPr>
              <a:t> הגיעה לאמה לקבל עצה ואמרה לה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3645000"/>
            <a:ext cx="62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הרכב שלנו התקלק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450864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ובעלי הביא לי ליום ההולדת </a:t>
            </a:r>
            <a:br>
              <a:rPr sz="2000"/>
            </a:b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כרטיס ברכה וספר..כל כך לא רומנטי.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6021360"/>
            <a:ext cx="70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הכל פשוט כל כך רע... אני לא יודעת מה לעשות..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4000" y="1125360"/>
            <a:ext cx="1123920" cy="1333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124000" y="3573360"/>
            <a:ext cx="1224000" cy="567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6877080" y="2997360"/>
            <a:ext cx="1089000" cy="8683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  <p:sndAc>
      <p:stSnd>
        <p:snd r:embed="rId4" name="Forest%20Gump%20-%20Movie%20Them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5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45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65e1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7480" y="620640"/>
            <a:ext cx="667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אמה הוציאה נייר קטן וסימנה עליו נקודה שחורה במרכזו,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2205000"/>
            <a:ext cx="3168360" cy="338472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364500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65e1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348000" y="260280"/>
            <a:ext cx="2521080" cy="27370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4653000"/>
            <a:ext cx="6443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ttman Yad-Brush"/>
              </a:rPr>
              <a:t>"שכחת דבר חשוב"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אמרה האם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Guttman Yad-Brush"/>
              </a:rPr>
              <a:t>"את רואה גם את הנייר?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40464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ttman Yad-Brush"/>
              </a:rPr>
              <a:t> "מה את רואה כאן?" שאלה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484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62160" y="2349360"/>
            <a:ext cx="49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ttman Yad-Brush"/>
              </a:rPr>
              <a:t>-  "אני רואה נקודה שחורה" אמרה האיש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80160" y="3284640"/>
            <a:ext cx="29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ttman Yad-Brush"/>
              </a:rPr>
              <a:t>"מה עוד?" שאלה האם,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69480" y="4076640"/>
            <a:ext cx="20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ttman Yad-Brush"/>
              </a:rPr>
              <a:t>-  "כלום". ענתה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65e1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765000"/>
            <a:ext cx="896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היא נזכרה שאומנם הבית שלה ישן אבל יש לה בית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ttman Yad-Brush"/>
              </a:rPr>
              <a:t> </a:t>
            </a:r>
            <a:br>
              <a:rPr sz="2000"/>
            </a:b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היא חשבה על הילדים שמתרוצצים בחוץ כי הם בריאים ומלאי אנרגיה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ttman Yad-Brush"/>
              </a:rPr>
              <a:t> </a:t>
            </a:r>
            <a:br>
              <a:rPr sz="2000"/>
            </a:b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הרכב התקלקל אבל יש לה רכב שלא כמו לכולם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היא חייכה כשחשבה </a:t>
            </a:r>
            <a:br>
              <a:rPr sz="2000"/>
            </a:b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שבעלה אולי לא בחר את המתנה האידיאלית אבל אכן חשב עליה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ttman Yad-Brush"/>
              </a:rPr>
              <a:t> </a:t>
            </a:r>
            <a:br>
              <a:rPr sz="2000"/>
            </a:b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והיא בעצם יודעת שהוא מאד אוהב אותה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היא הבינה שלפעמי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אנחנו מתמקדים בנקודה השחור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ולא רואים את הנייר עצמו... 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21560" y="333360"/>
            <a:ext cx="16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האישה חייכ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6157800"/>
            <a:ext cx="2195640" cy="70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340000" y="6157800"/>
            <a:ext cx="2160720" cy="700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4643280" y="6157800"/>
            <a:ext cx="2160720" cy="700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6945480" y="6157800"/>
            <a:ext cx="2198520" cy="70020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65e1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84080" y="1989000"/>
            <a:ext cx="7594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אז מתי אתה רואה רק את הנקודה השחורה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מתי אתה מתמקד במה שאין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תפוס את עצמך במהלך היום כשאתה מתמקד "בנקודה השחורה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עצור לרגע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Guttman Yad-Brush"/>
              </a:rPr>
              <a:t>ונסה לראות את "הנייר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771640" y="4896000"/>
            <a:ext cx="3714840" cy="196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>
            <a:lum contrast="20000"/>
          </a:blip>
          <a:stretch/>
        </p:blipFill>
        <p:spPr>
          <a:xfrm rot="10800000">
            <a:off x="2700000" y="0"/>
            <a:ext cx="3714840" cy="196200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65e1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125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Guttman Yad-Brush"/>
              </a:rPr>
              <a:t>כל דבר שנתמקד בו - יגדל. </a:t>
            </a:r>
            <a:br>
              <a:rPr sz="2400"/>
            </a:b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Guttman Yad-Brush"/>
              </a:rPr>
              <a:t>לכן עלינו להתמקד בדברים הנכונים בצורה מעצימה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76720" y="256536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16000" y="602136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Guttman Yad-Brush"/>
              </a:rPr>
              <a:t>שיהיה לנו מדהים!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ttman Yad-Brush"/>
              </a:rPr>
              <a:t>shyrz@wall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21:14:14Z</dcterms:created>
  <dc:creator>Rom Zeltzer</dc:creator>
  <dc:description/>
  <dc:language>en-US</dc:language>
  <cp:lastModifiedBy>Rom Zeltzer</cp:lastModifiedBy>
  <dcterms:modified xsi:type="dcterms:W3CDTF">2008-01-19T22:38:51Z</dcterms:modified>
  <cp:revision>3</cp:revision>
  <dc:subject/>
  <dc:title>שקופית 1</dc:title>
</cp:coreProperties>
</file>