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683-159C-4555-8001-130B39A7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36F-B6FD-42FD-94C7-3469063B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109-C721-48E3-80E7-782FE15F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064-1B82-434A-AEC6-71B9451A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C28E-EDA7-4C1B-8F90-EF98458D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E0B-FF38-4A6A-BF90-906D117B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2244-811B-45BA-A38D-D2BAA97B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BC9-EBFB-4C4C-B0D3-80BA0D47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4D6-0BBE-4294-B93B-D3EA21B2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32D1-E77C-422A-8275-905BD7D5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5EA-81FD-4C2A-AB9E-8EE22155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206-CC83-4C85-B873-379FBA94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96CD-6E2D-463A-8578-EFCC08EFF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21:41:30Z</dcterms:created>
  <dc:creator>amit</dc:creator>
  <dc:description/>
  <dc:language>en-US</dc:language>
  <cp:lastModifiedBy>amit</cp:lastModifiedBy>
  <dcterms:modified xsi:type="dcterms:W3CDTF">2009-07-08T21:41:42Z</dcterms:modified>
  <cp:revision>1</cp:revision>
  <dc:subject/>
  <dc:title>מצגת של PowerPoint</dc:title>
</cp:coreProperties>
</file>