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8AA-8A58-4960-B03F-5A0F91A4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213-E7A8-4BCB-85D3-90F5C6A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CDC-1575-434B-A501-AC4401E5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03E-6D12-4867-9469-CEF7FB5A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6018-4A14-4479-B920-F7434D61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F9A-9036-48AA-A422-4238635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AA88-97F9-4F63-A315-9BC1D1B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95BC-51AA-42E5-BA21-D6C2B319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183A-A57A-4441-B450-FD7542A4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63E-8FBE-4476-815C-1EEB6073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094-BFC3-4726-AD95-44B830E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766-64BF-4DC7-A8DD-FB08DEE3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9398-73E6-4BEE-B4BB-F7549A4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DA2-9A8B-4AA6-91E0-08D12E6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2A1A-2DE1-4AE4-B7B6-5CC921B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C61-CDED-4520-99D2-67D0D48C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43D-2D55-48E8-B7C0-F9FF0C38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3E3-92FE-43E1-A56F-182D437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6B4-06E9-46E8-B5C8-A2439C90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9E4-2965-4167-8C57-AF959F0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B7C-EAA3-4C19-B68B-B2D021CA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A6C-B883-426F-ACB2-47651DF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86E-54EC-4F04-9FA2-7300F59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3E8-3EDC-4682-9558-20ECABE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71D-F88A-4EF8-ACF5-D6660B6E97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5075-D8FC-4B54-80F7-A0C88E2244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592200"/>
            <a:ext cx="8424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cc"/>
                </a:solidFill>
                <a:latin typeface="Tahoma"/>
              </a:rPr>
              <a:t>דור שליש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תערוכת כרזות בנוש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מעמדם ומצבם של הקשישים בישרא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cc"/>
                </a:solidFill>
                <a:latin typeface="Tahoma"/>
              </a:rPr>
              <a:t>הכרזות עוצבו על ידי סטודנטים שנה א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cc"/>
                </a:solidFill>
                <a:latin typeface="Tahoma"/>
              </a:rPr>
              <a:t>במחלקה לתקשורת אינטראקטיבי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cc"/>
                </a:solidFill>
                <a:latin typeface="Tahoma"/>
              </a:rPr>
              <a:t> בביה"ס להנדסאים, מכללת ספי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המרכז הישראלי לעיצוב, מדיטק חול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רח' גולדה מאיר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6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, חולו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2-30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 ביולי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2009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פתיחה: יום ה',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2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 ביולי, בשעה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אוצר: רני רדזל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שעות פתיחה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א'-ה'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9:00-19:00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,  ו' ש': </a:t>
            </a: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10:00-14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66"/>
                </a:solidFill>
                <a:latin typeface="Tahoma"/>
              </a:rPr>
              <a:t>הכניסה חופשי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איתי סיד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20960" y="836640"/>
            <a:ext cx="3502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משה קסב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20960" y="836640"/>
            <a:ext cx="3502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דורון ניס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ומר קמ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25640" y="836640"/>
            <a:ext cx="3492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אלה זואר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יוליה פלדמ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תום לבי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יוליה ליטבינו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סיון גינזבורסק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רומן וייז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4000" y="601488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כרזת התערוכה                                                   עיצוב גרפי: רני רדזל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פיליפ אנופריי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ג'ני בייבו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אלעד שח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אופיר רחמנ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רועי באומגרט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טרה אופי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24200" y="836640"/>
            <a:ext cx="34956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רועי בורובסק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אליעזר גליבו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20960" y="836640"/>
            <a:ext cx="3502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אילן אנצ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דלית לו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20960" y="836640"/>
            <a:ext cx="3502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רתם יהוד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גל גולצמ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e-IL" sz="1800" spc="-1" strike="noStrike">
                <a:solidFill>
                  <a:srgbClr val="ffffff"/>
                </a:solidFill>
                <a:latin typeface="Tahoma"/>
              </a:rPr>
              <a:t>עינר ברזיל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22400" y="836640"/>
            <a:ext cx="3499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4000" y="60148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עיצוב גרפי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יהל אליא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20960" y="836640"/>
            <a:ext cx="35020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9:53:36Z</dcterms:created>
  <dc:creator>aa</dc:creator>
  <dc:description/>
  <dc:language>en-US</dc:language>
  <cp:lastModifiedBy>Rani</cp:lastModifiedBy>
  <dcterms:modified xsi:type="dcterms:W3CDTF">2009-06-22T19:54:43Z</dcterms:modified>
  <cp:revision>525</cp:revision>
  <dc:subject/>
  <dc:title>שקופית 1</dc:title>
</cp:coreProperties>
</file>