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9DC-3619-40E5-8002-4FC5D0F5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8FF-9B37-47D3-B4C8-DA6588E0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E64-FF5B-4D14-99C5-59B59E07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11A-FE3D-45F1-8A22-F1758279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8F1-CA92-4B4A-BB88-C28128B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7A8-D197-471B-9EC8-A71481C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5E0-BFF2-4761-AB19-C3FB8916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6DE-AE6F-4F5E-9E02-2505807B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6A5-E393-4B0D-997D-4C7BE2FD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DCF-AD7C-48EE-9A5B-A81C6EFD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022-9ED5-4ABD-88DA-6C2F7C4C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6EB-C464-4B8E-A37F-5704D43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530E-D15F-41C1-A9DC-3B30A6E1B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3:36:13Z</dcterms:created>
  <dc:creator>amit</dc:creator>
  <dc:description/>
  <dc:language>en-US</dc:language>
  <cp:lastModifiedBy>amit</cp:lastModifiedBy>
  <dcterms:modified xsi:type="dcterms:W3CDTF">2009-07-28T13:36:29Z</dcterms:modified>
  <cp:revision>1</cp:revision>
  <dc:subject/>
  <dc:title>מצגת של PowerPoint</dc:title>
</cp:coreProperties>
</file>