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574-75EF-4741-A6DC-41635114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132-A975-40B9-8BF0-C2C5451E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C65-AC98-4AC7-9926-5B37C15A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532-C46C-433A-922E-6233C6C5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109-D02B-464E-B679-540EF3A9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810-1FCB-4C28-8928-95E42DFE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88C-8185-4520-98EA-FBA27CA7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2F0-21F6-41E2-BD7E-4FE6896F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86D-761F-4522-9CAF-D554D7CF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ECE-C4BA-4CE4-8867-66232EF8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20E-D369-4629-82F5-9BF47470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25A-CA6F-425B-89ED-5EF8BBBE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1CB6-BAB0-4B39-B30D-23BDDA16D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1480" y="76320"/>
            <a:ext cx="3962520" cy="67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s is quite amazing!!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see this lady turning in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ockwis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 are using your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ight br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see it th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ther w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you are using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eft br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people do see both ways, but most people see it only one way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try to see it the other way and if you do see, your IQ is above 160 which is almost a genius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n see if you can make her go one way and then the other by shifting the brain's current.  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OTH DIRECTIONS CAN BE SEE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was proved at Yale University , over a 5 year study on the human brai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it's functions. Only 14% of the US population can see her move both way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6:04:51Z</dcterms:created>
  <dc:creator>sign</dc:creator>
  <dc:description/>
  <dc:language>en-US</dc:language>
  <cp:lastModifiedBy>sign</cp:lastModifiedBy>
  <dcterms:modified xsi:type="dcterms:W3CDTF">2008-04-08T06:06:41Z</dcterms:modified>
  <cp:revision>1</cp:revision>
  <dc:subject/>
  <dc:title>Slide 1</dc:title>
</cp:coreProperties>
</file>