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5A6-263F-4DD2-9CDC-68A9604F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7FE-1DA2-4882-AA37-AA56DB77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39A-B2B2-4CB2-BA84-3996C3E9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332-68DB-47AC-86E3-90EE8084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4C3-52EC-4EF3-99B3-1B45D2F1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9801-FFA5-421A-A1A5-FACE3A51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904-E9F0-4BAF-A32A-26C9B01F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C29-7732-41FD-86FD-49502FC0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624-56BE-4D8F-8BB0-5E8B0AE0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38E-378A-4789-A865-1EAFD535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8B5-6CB1-4CD5-BC91-4FE5650E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AC4-D582-457C-8897-9448CAF7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1FFD-EF68-4B03-AED7-C40D98BA24C2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hyperlink" Target="http://www.ynet.co.il/articles/0,7340,L-3739003,00.html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hyperlink" Target="http://wiki.hamakor.org.il/index.php/&#1502;&#1499;&#1514;&#1489;_&#1492;&#1502;&#1491;&#1506;&#1504;&#1497;&#1501;_&#1492;&#1513;&#1504;&#1497;_&#1499;&#1504;&#1490;&#1491;_&#1495;&#1493;&#1511;_&#1492;&#1502;&#1488;&#1490;&#1512;_&#1492;&#1489;&#1497;&#1493;&#1502;&#1496;&#1512;&#1497;" TargetMode="External"/><Relationship Id="rId4" Type="http://schemas.openxmlformats.org/officeDocument/2006/relationships/hyperlink" Target="http://wiki.hamakor.org.il/index.php/&#1502;&#1499;&#1514;&#1489;_&#1492;&#1502;&#1491;&#1506;&#1504;&#1497;&#1501;_&#1492;&#1513;&#1504;&#1497;_&#1499;&#1504;&#1490;&#1491;_&#1495;&#1493;&#1511;_&#1492;&#1502;&#1488;&#1490;&#1512;_&#1492;&#1489;&#1497;&#1493;&#1502;&#1496;&#1512;&#1497;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idi.org.il/BreakingNews/Pages/148.aspx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Oren\Documents\no2\bio1\Slide1.PNG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Oren\Documents\no2\bio1\Slide10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2286000" y="557208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net.co.il/articles/0,7340,L-3739003,00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Oren\Documents\no2\bio1\Slide11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3214800" y="4500720"/>
            <a:ext cx="5214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iki.hamakor.org.il/index.php/</a:t>
            </a:r>
            <a:r>
              <a:rPr b="0" lang="he-I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מכתב_המדענים_השני_כנגד_חוק_המאגר_הביומטר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Oren\Documents\no2\bio1\Slide12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2441880" y="4929120"/>
            <a:ext cx="4547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inn.co.il/News/News.aspx/19236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Oren\Documents\no2\bio1\Slide15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1857240" y="5643720"/>
            <a:ext cx="457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ynet.co.il/articles/0,7340,L-3809016,00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Oren\Documents\no2\bio1\Slide13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Oren\Documents\no2\bio1\Slide14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417320" y="4929120"/>
            <a:ext cx="679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ekarine.org/heb/2009/08/biocompa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Oren\Documents\no2\bio1\Slide16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2433240" y="6000840"/>
            <a:ext cx="412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t.themarker.com/tmit/article/755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Oren\Documents\no2\bio1\Slide17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Oren\Documents\no2\bio1\Slide18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2643120" y="5000760"/>
            <a:ext cx="457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knesset.gov.il/mk/heb/mkindex_current.a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Oren\Documents\no2\bio1\Slide2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2447640" y="3714840"/>
            <a:ext cx="532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idi.org.il/BreakingNews/Pages/148.asp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Oren\Documents\no2\bio1\Slide3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Oren\Documents\no2\bio1\Slide4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Oren\Documents\no2\bio1\Slide5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Oren\Documents\no2\bio1\Slide6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Oren\Documents\no2\bio1\Slide7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Oren\Documents\no2\bio1\Slide8.PNG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Oren\Documents\no2\bio1\Slide9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8:46:29Z</dcterms:created>
  <dc:creator>Oren</dc:creator>
  <dc:description/>
  <dc:language>en-US</dc:language>
  <cp:lastModifiedBy>Oren</cp:lastModifiedBy>
  <dcterms:modified xsi:type="dcterms:W3CDTF">2009-11-28T23:32:51Z</dcterms:modified>
  <cp:revision>3</cp:revision>
  <dc:subject/>
  <dc:title>Slide 1</dc:title>
</cp:coreProperties>
</file>