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F61-0210-4618-986C-047B3B4E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6A3-21F4-4CAC-AED1-B8EEECE5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B81-5388-497A-85E4-F6AE26E9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F74-BC97-4C57-A56F-90C9A78A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FC9-21D4-4929-8894-DF892363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999-F2FF-4BC9-9E36-3C5B4F67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343-3D18-40A1-9BB0-A31BE200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D0F-7A56-41D0-B8B4-BCDEECC9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61F-EC77-4FA4-ABAC-4C6FF65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F92-1C5F-47E8-8672-4402E31A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35D-7A6C-4E33-A0FF-E308F29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EBF-662C-4DA2-9F95-A4A1DAC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878B-F20F-4BD1-B33B-ABB0F457D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1:48:33Z</dcterms:created>
  <dc:creator>לבקוביץ נאוה</dc:creator>
  <dc:description/>
  <dc:language>en-US</dc:language>
  <cp:lastModifiedBy>לבקוביץ נאוה</cp:lastModifiedBy>
  <dcterms:modified xsi:type="dcterms:W3CDTF">2009-04-25T11:48:47Z</dcterms:modified>
  <cp:revision>1</cp:revision>
  <dc:subject/>
  <dc:title>מצגת של PowerPoint</dc:title>
</cp:coreProperties>
</file>