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FB9-B56E-47BF-9580-27B05A58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F04-17FC-40AA-AF22-D5E02765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250-FE39-414A-A2EC-60A6E0BA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4F56-ED68-438B-A43F-141C8A35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DEB-21AC-42B0-A850-CE71E612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ED7-C6CE-49FC-8A0A-AE76E99E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019-34B2-4A4D-8A72-82BBDC28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210-B728-4B88-B80A-FE38D8DC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359-2547-450A-A530-C1C9FCC5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33C-242E-4475-97EC-11E8B99D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ADE-2EBF-4E83-B10C-D228D67C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BF5-9F3A-401F-A3B5-EFA147F4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5385-20A5-4EDB-9C58-311BBD20F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22:54:33Z</dcterms:created>
  <dc:creator>amit</dc:creator>
  <dc:description/>
  <dc:language>en-US</dc:language>
  <cp:lastModifiedBy>amit</cp:lastModifiedBy>
  <dcterms:modified xsi:type="dcterms:W3CDTF">2009-05-02T22:54:45Z</dcterms:modified>
  <cp:revision>1</cp:revision>
  <dc:subject/>
  <dc:title>מצגת של PowerPoint</dc:title>
</cp:coreProperties>
</file>