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EBAE-34F0-4EB5-97B6-D63B3B8D7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44BF-270A-4D29-93CA-4119BA9E3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CB4C-121B-41EC-87A5-0E28AFF5B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C795-0802-44A8-BF5B-5BC8A1703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EC8A-D1AD-4C48-9646-91823204E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8C62-CF82-470F-A302-B9F71E3BB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909C-7662-4816-B1DE-BD9B450BE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7119-70E1-4812-89CC-D2F491464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E53E-1807-42EA-B9E2-01DA32152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5D8E-857B-496E-ABF8-A068CFBE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BB7C-8E7C-4A12-9E43-BEA401E4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12D3-EDED-470D-82C5-B54E4E55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9FD1B-08DE-452B-AECB-03F555635F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523880" y="-1143000"/>
            <a:ext cx="1219176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14:24:09Z</dcterms:created>
  <dc:creator>amit</dc:creator>
  <dc:description/>
  <dc:language>en-US</dc:language>
  <cp:lastModifiedBy>amit</cp:lastModifiedBy>
  <dcterms:modified xsi:type="dcterms:W3CDTF">2009-05-05T14:24:22Z</dcterms:modified>
  <cp:revision>1</cp:revision>
  <dc:subject/>
  <dc:title>מצגת של PowerPoint</dc:title>
</cp:coreProperties>
</file>