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B01-D3F3-438A-89E8-E1C1A07F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5F58-DB5A-4325-98F9-C35C70E1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1B58-A35E-49CB-9E4C-10619847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EA9-4E04-4AF1-B8B9-391AA019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2209-74CC-4C89-8244-FCF1E2C4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EC22-3A23-4909-98BF-61AE84FA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B825-893A-446C-8681-701FC64C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20C-776A-42B2-A329-585EBA09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817F-9C6E-4AEF-9863-66209B4D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4B8-163E-424C-8842-59BD485C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92E-5859-4027-8238-80FEA0F3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4EC-2F22-46B1-9248-34448594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01FE-23E7-4C32-BB38-F160B2A54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3:12:02Z</dcterms:created>
  <dc:creator>amit</dc:creator>
  <dc:description/>
  <dc:language>en-US</dc:language>
  <cp:lastModifiedBy>amit</cp:lastModifiedBy>
  <dcterms:modified xsi:type="dcterms:W3CDTF">2009-05-11T13:12:10Z</dcterms:modified>
  <cp:revision>1</cp:revision>
  <dc:subject/>
  <dc:title>מצגת של PowerPoint</dc:title>
</cp:coreProperties>
</file>