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782-4AAA-4980-9D8A-8F472173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332-2B09-44B3-9F49-DBD6933C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54D-6F6F-4F91-9C18-11BB791D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011-0ADE-4197-8F31-A8CC4FC5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785-2D61-4E41-8A10-2DAF18F4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604-985E-4319-AA09-01BD412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A1E-8FB5-4F98-AEC2-C6554E14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FD8-A915-4B07-91E0-3DAE4A16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758-7073-4F6E-8F1F-D7DFD7E9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361-F114-4B8E-93B9-590CB9D1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C7A-293B-46D7-BA11-E1168E96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C26-284B-4E39-8C81-E9FE8F3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80BF-B53E-4B19-955F-168BE9D3419F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ruven\My Documents\My Pictures\POT1.JPG"/>
          <p:cNvPicPr/>
          <p:nvPr/>
        </p:nvPicPr>
        <p:blipFill>
          <a:blip r:embed="rId1"/>
          <a:stretch/>
        </p:blipFill>
        <p:spPr>
          <a:xfrm>
            <a:off x="754200" y="-525600"/>
            <a:ext cx="10870920" cy="909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1:08:03Z</dcterms:created>
  <dc:creator>ruven</dc:creator>
  <dc:description/>
  <dc:language>en-US</dc:language>
  <cp:lastModifiedBy>ruven</cp:lastModifiedBy>
  <dcterms:modified xsi:type="dcterms:W3CDTF">2009-05-18T21:12:27Z</dcterms:modified>
  <cp:revision>3</cp:revision>
  <dc:subject/>
  <dc:title>Slide 1</dc:title>
</cp:coreProperties>
</file>