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6895-963B-4FD4-AE5B-ED2BF251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B00E-384A-4002-B9A6-01A86F9F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016E-AB0C-4284-B867-BA3915B7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E35B-BE5C-4A54-B641-D34DC289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AF36-3914-4D1B-9E53-12FF68D0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E63B-66B6-47B6-9E87-35EB7A4E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E078-5D52-4F58-B674-7DDD1032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F73F-33E1-45F4-A812-A7B42DC1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E830-049F-4724-BD3C-6A246313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C495-558B-44AE-BB8A-FAE78996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3266-6669-4112-8AD2-0BA53E5E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8E01-3384-4DE9-9735-7CDE5C01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D7DA-5EAD-4999-A5E0-90AAC5D966BF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MDT רוור_0.tmp"/>
          <p:cNvPicPr/>
          <p:nvPr/>
        </p:nvPicPr>
        <p:blipFill>
          <a:blip r:embed="rId1"/>
          <a:stretch/>
        </p:blipFill>
        <p:spPr>
          <a:xfrm>
            <a:off x="0" y="419040"/>
            <a:ext cx="9144000" cy="60199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  <p:cxnSp>
        <p:nvCxnSpPr>
          <p:cNvPr id="42" name="Straight Arrow Connector 3"/>
          <p:cNvCxnSpPr/>
          <p:nvPr/>
        </p:nvCxnSpPr>
        <p:spPr>
          <a:xfrm>
            <a:off x="6858000" y="428400"/>
            <a:ext cx="72000" cy="157212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43" name="TextBox 8"/>
          <p:cNvGrpSpPr/>
          <p:nvPr/>
        </p:nvGrpSpPr>
        <p:grpSpPr>
          <a:xfrm>
            <a:off x="6291360" y="-49320"/>
            <a:ext cx="1030320" cy="536760"/>
            <a:chOff x="6291360" y="-49320"/>
            <a:chExt cx="1030320" cy="536760"/>
          </a:xfrm>
        </p:grpSpPr>
        <p:pic>
          <p:nvPicPr>
            <p:cNvPr id="44" name="TextBox 8" descr=""/>
            <p:cNvPicPr/>
            <p:nvPr/>
          </p:nvPicPr>
          <p:blipFill>
            <a:blip r:embed="rId2"/>
            <a:stretch/>
          </p:blipFill>
          <p:spPr>
            <a:xfrm>
              <a:off x="6291360" y="-49320"/>
              <a:ext cx="103032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357960" y="0"/>
              <a:ext cx="85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Calibri"/>
                </a:rPr>
                <a:t>הקונה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6" name="Straight Arrow Connector 10"/>
          <p:cNvCxnSpPr/>
          <p:nvPr/>
        </p:nvCxnSpPr>
        <p:spPr>
          <a:xfrm>
            <a:off x="6500880" y="357120"/>
            <a:ext cx="286560" cy="2215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47" name="TextBox 15"/>
          <p:cNvGrpSpPr/>
          <p:nvPr/>
        </p:nvGrpSpPr>
        <p:grpSpPr>
          <a:xfrm>
            <a:off x="8290080" y="-49320"/>
            <a:ext cx="963360" cy="536760"/>
            <a:chOff x="8290080" y="-49320"/>
            <a:chExt cx="963360" cy="536760"/>
          </a:xfrm>
        </p:grpSpPr>
        <p:pic>
          <p:nvPicPr>
            <p:cNvPr id="48" name="TextBox 15" descr=""/>
            <p:cNvPicPr/>
            <p:nvPr/>
          </p:nvPicPr>
          <p:blipFill>
            <a:blip r:embed="rId3"/>
            <a:stretch/>
          </p:blipFill>
          <p:spPr>
            <a:xfrm>
              <a:off x="8290080" y="-49320"/>
              <a:ext cx="9633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379720" y="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Calibri"/>
                </a:rPr>
                <a:t>המוכר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0" name="Straight Arrow Connector 17"/>
          <p:cNvCxnSpPr/>
          <p:nvPr/>
        </p:nvCxnSpPr>
        <p:spPr>
          <a:xfrm flipH="1">
            <a:off x="8071560" y="357120"/>
            <a:ext cx="358200" cy="1643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1" name="Straight Connector 19"/>
          <p:cNvSpPr/>
          <p:nvPr/>
        </p:nvSpPr>
        <p:spPr>
          <a:xfrm flipH="1" flipV="1">
            <a:off x="2356920" y="2571840"/>
            <a:ext cx="26434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TextBox 20"/>
          <p:cNvGrpSpPr/>
          <p:nvPr/>
        </p:nvGrpSpPr>
        <p:grpSpPr>
          <a:xfrm>
            <a:off x="609480" y="2541600"/>
            <a:ext cx="1743120" cy="413280"/>
            <a:chOff x="609480" y="2541600"/>
            <a:chExt cx="1743120" cy="413280"/>
          </a:xfrm>
        </p:grpSpPr>
        <p:pic>
          <p:nvPicPr>
            <p:cNvPr id="53" name="TextBox 20" descr=""/>
            <p:cNvPicPr/>
            <p:nvPr/>
          </p:nvPicPr>
          <p:blipFill>
            <a:blip r:embed="rId4"/>
            <a:stretch/>
          </p:blipFill>
          <p:spPr>
            <a:xfrm>
              <a:off x="609480" y="2541600"/>
              <a:ext cx="17431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42960" y="2571840"/>
              <a:ext cx="168444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Calibri"/>
                </a:rPr>
                <a:t>נקודת הכניסה </a:t>
              </a:r>
              <a:r>
                <a:rPr b="0" lang="he-IL" sz="800" spc="-1" strike="noStrike">
                  <a:solidFill>
                    <a:srgbClr val="000000"/>
                  </a:solidFill>
                  <a:latin typeface="Calibri"/>
                </a:rPr>
                <a:t>המקורית </a:t>
              </a:r>
              <a:r>
                <a:rPr b="0" lang="he-IL" sz="800" spc="-1" strike="noStrike">
                  <a:solidFill>
                    <a:srgbClr val="000000"/>
                  </a:solidFill>
                  <a:latin typeface="Calibri"/>
                </a:rPr>
                <a:t>31.7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Straight Connector 23"/>
          <p:cNvSpPr/>
          <p:nvPr/>
        </p:nvSpPr>
        <p:spPr>
          <a:xfrm flipH="1" flipV="1">
            <a:off x="857160" y="5143680"/>
            <a:ext cx="29289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TextBox 30"/>
          <p:cNvGrpSpPr/>
          <p:nvPr/>
        </p:nvGrpSpPr>
        <p:grpSpPr>
          <a:xfrm>
            <a:off x="314280" y="3895560"/>
            <a:ext cx="1876680" cy="322560"/>
            <a:chOff x="314280" y="3895560"/>
            <a:chExt cx="1876680" cy="322560"/>
          </a:xfrm>
        </p:grpSpPr>
        <p:pic>
          <p:nvPicPr>
            <p:cNvPr id="57" name="TextBox 30" descr=""/>
            <p:cNvPicPr/>
            <p:nvPr/>
          </p:nvPicPr>
          <p:blipFill>
            <a:blip r:embed="rId5"/>
            <a:stretch/>
          </p:blipFill>
          <p:spPr>
            <a:xfrm>
              <a:off x="324000" y="3895560"/>
              <a:ext cx="1852560" cy="3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14280" y="3929040"/>
              <a:ext cx="1876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Calibri"/>
                </a:rPr>
                <a:t>נקודת הכניסה המקורית </a:t>
              </a:r>
              <a:r>
                <a:rPr b="0" lang="he-IL" sz="800" spc="-1" strike="noStrike">
                  <a:solidFill>
                    <a:srgbClr val="000000"/>
                  </a:solidFill>
                  <a:latin typeface="Calibri"/>
                </a:rPr>
                <a:t>31.77</a:t>
              </a:r>
              <a:r>
                <a:rPr b="0" lang="he-IL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9" name="Straight Arrow Connector 32"/>
          <p:cNvCxnSpPr/>
          <p:nvPr/>
        </p:nvCxnSpPr>
        <p:spPr>
          <a:xfrm>
            <a:off x="2142720" y="4214880"/>
            <a:ext cx="1715400" cy="643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grpSp>
        <p:nvGrpSpPr>
          <p:cNvPr id="60" name="TextBox 33"/>
          <p:cNvGrpSpPr/>
          <p:nvPr/>
        </p:nvGrpSpPr>
        <p:grpSpPr>
          <a:xfrm>
            <a:off x="703440" y="4827600"/>
            <a:ext cx="1625400" cy="287280"/>
            <a:chOff x="703440" y="4827600"/>
            <a:chExt cx="1625400" cy="287280"/>
          </a:xfrm>
        </p:grpSpPr>
        <p:pic>
          <p:nvPicPr>
            <p:cNvPr id="61" name="TextBox 33" descr=""/>
            <p:cNvPicPr/>
            <p:nvPr/>
          </p:nvPicPr>
          <p:blipFill>
            <a:blip r:embed="rId6"/>
            <a:stretch/>
          </p:blipFill>
          <p:spPr>
            <a:xfrm>
              <a:off x="706320" y="4827600"/>
              <a:ext cx="160992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03440" y="4857840"/>
              <a:ext cx="1625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000000"/>
                  </a:solidFill>
                  <a:latin typeface="Calibri"/>
                </a:rPr>
                <a:t>נקודת הכניסה </a:t>
              </a:r>
              <a:r>
                <a:rPr b="0" lang="he-IL" sz="900" spc="-1" strike="noStrike">
                  <a:solidFill>
                    <a:srgbClr val="000000"/>
                  </a:solidFill>
                  <a:latin typeface="Calibri"/>
                </a:rPr>
                <a:t>המוקדמת </a:t>
              </a:r>
              <a:r>
                <a:rPr b="0" lang="he-IL" sz="900" spc="-1" strike="noStrike">
                  <a:solidFill>
                    <a:srgbClr val="000000"/>
                  </a:solidFill>
                  <a:latin typeface="Calibri"/>
                </a:rPr>
                <a:t>31.65</a:t>
              </a:r>
              <a:r>
                <a:rPr b="0" lang="he-IL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TextBox 36"/>
          <p:cNvSpPr/>
          <p:nvPr/>
        </p:nvSpPr>
        <p:spPr>
          <a:xfrm>
            <a:off x="6357960" y="4214880"/>
            <a:ext cx="19288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Calibri"/>
              </a:rPr>
              <a:t>הערה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Calibri"/>
              </a:rPr>
              <a:t> הקונה הגדול מופיע גם מעבר למחיר </a:t>
            </a:r>
            <a:r>
              <a:rPr b="0" lang="he-IL" sz="1100" spc="-1" strike="noStrike">
                <a:solidFill>
                  <a:srgbClr val="000000"/>
                </a:solidFill>
                <a:latin typeface="Calibri"/>
              </a:rPr>
              <a:t>32$</a:t>
            </a:r>
            <a:r>
              <a:rPr b="0" lang="he-IL" sz="1100" spc="-1" strike="noStrike">
                <a:solidFill>
                  <a:srgbClr val="000000"/>
                </a:solidFill>
                <a:latin typeface="Calibri"/>
              </a:rPr>
              <a:t> אולם התהליך החל כבר באזור </a:t>
            </a:r>
            <a:r>
              <a:rPr b="0" lang="he-IL" sz="1100" spc="-1" strike="noStrike">
                <a:solidFill>
                  <a:srgbClr val="000000"/>
                </a:solidFill>
                <a:latin typeface="Calibri"/>
              </a:rPr>
              <a:t>31.60</a:t>
            </a:r>
            <a:r>
              <a:rPr b="0" lang="he-IL" sz="1100" spc="-1" strike="noStrike">
                <a:solidFill>
                  <a:srgbClr val="000000"/>
                </a:solidFill>
                <a:latin typeface="Calibri"/>
              </a:rPr>
              <a:t> ,לצערי אין לי תמונת מצב בנקודה זו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0:08:45Z</dcterms:created>
  <dc:creator>ruven</dc:creator>
  <dc:description/>
  <dc:language>en-US</dc:language>
  <cp:lastModifiedBy>ruven</cp:lastModifiedBy>
  <dcterms:modified xsi:type="dcterms:W3CDTF">2009-05-20T11:24:35Z</dcterms:modified>
  <cp:revision>8</cp:revision>
  <dc:subject/>
  <dc:title>Slide 1</dc:title>
</cp:coreProperties>
</file>