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D80-4821-4FDC-9E98-BF4C6ED0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401-4661-4E43-BCE5-A0E9D135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9C3-81EC-4096-83B7-CFC316A6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6A1-1296-4A98-AAB1-5D358DAF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0C7-E2DA-40A3-9CBB-CFFC7F6F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28F-A201-4579-8F84-224256B0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CE2-E6B1-4FE7-893B-8632D4A1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8B8-7F6C-452E-9A8B-FDE1C181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28D-33E1-4C72-A088-BEAE79D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DC5-11D8-4C83-87C4-0B4EC16B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090-5A96-4803-BD86-F27BA385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87E-807E-413C-9FE4-3095EC8D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B3D4-332C-4CF1-BF3E-D34349D4C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0T21:49:58Z</dcterms:created>
  <dc:creator>amit</dc:creator>
  <dc:description/>
  <dc:language>en-US</dc:language>
  <cp:lastModifiedBy>amit</cp:lastModifiedBy>
  <dcterms:modified xsi:type="dcterms:W3CDTF">2009-05-30T21:50:07Z</dcterms:modified>
  <cp:revision>1</cp:revision>
  <dc:subject/>
  <dc:title>מצגת של PowerPoint</dc:title>
</cp:coreProperties>
</file>