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8.jpeg" ContentType="image/jpeg"/>
  <Override PartName="/ppt/media/image29.jpeg" ContentType="image/jpeg"/>
  <Override PartName="/ppt/media/image10.jpeg" ContentType="image/jpeg"/>
  <Override PartName="/ppt/media/image9.jpeg" ContentType="image/jpeg"/>
  <Override PartName="/ppt/media/image36.jpeg" ContentType="image/jpeg"/>
  <Override PartName="/ppt/media/image11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43.jpeg" ContentType="image/jpeg"/>
  <Override PartName="/ppt/media/image8.jpeg" ContentType="image/jpeg"/>
  <Override PartName="/ppt/media/image39.jpeg" ContentType="image/jpeg"/>
  <Override PartName="/ppt/media/image45.gif" ContentType="image/gif"/>
  <Override PartName="/ppt/media/image12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0.jpeg" ContentType="image/jpeg"/>
  <Override PartName="/ppt/media/167RogerWilliamsTheImpossibleDream.wav" ContentType="audio/x-wav"/>
  <Override PartName="/ppt/media/image41.jpeg" ContentType="image/jpe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6BC9-FF50-4FC8-892C-F244B8310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6716-71DD-4186-BF5F-1007D0D34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A40D-DC75-4152-83CF-05B363522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CC39-A16E-4D04-B000-1F5ECFE20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F813-889C-4175-9987-D741A8CFE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F919-5E71-4A33-A2C3-444780622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3D1C-ABEB-4022-B8E0-B5B291B0F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10E2-2091-411C-9ABA-FA8232BED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18BA-2AE1-4D94-B72A-220E4BA5B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DE30-ABFE-4A86-914D-9CA303AD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5426-84A3-4893-8738-CEFF2B2A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4885-5CA6-4F98-84D7-DB74C4EC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20A95-84D9-4476-948B-E79498B3EE5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audio" Target="../media/167RogerWilliamsTheImpossibleDream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image" Target="../media/image45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628640"/>
            <a:ext cx="23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Mak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04320" y="4437000"/>
            <a:ext cx="424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Differenc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24360" y="2781360"/>
            <a:ext cx="93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948360" y="6093000"/>
            <a:ext cx="8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172360" y="6021360"/>
            <a:ext cx="647640" cy="517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97800" y="333360"/>
            <a:ext cx="406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Teddy Stallard 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rcRect l="58020" t="12290" r="11532" b="45121"/>
          <a:stretch/>
        </p:blipFill>
        <p:spPr>
          <a:xfrm>
            <a:off x="395280" y="3141720"/>
            <a:ext cx="3157560" cy="331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8" name="" descr=""/>
          <p:cNvPicPr/>
          <p:nvPr/>
        </p:nvPicPr>
        <p:blipFill>
          <a:blip r:embed="rId4"/>
          <a:srcRect l="9302" t="12195" r="40209" b="9669"/>
          <a:stretch/>
        </p:blipFill>
        <p:spPr>
          <a:xfrm>
            <a:off x="5724360" y="404640"/>
            <a:ext cx="3013200" cy="3640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9" name=""/>
          <p:cNvSpPr/>
          <p:nvPr/>
        </p:nvSpPr>
        <p:spPr>
          <a:xfrm>
            <a:off x="1116000" y="765000"/>
            <a:ext cx="230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d60093"/>
                </a:solidFill>
                <a:latin typeface="Times New Roman"/>
                <a:cs typeface="Times New Roman"/>
              </a:rPr>
              <a:t>לעשות</a:t>
            </a:r>
            <a:r>
              <a:rPr b="1" lang="en-US" sz="6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93600" y="5516640"/>
            <a:ext cx="170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d60093"/>
                </a:solidFill>
                <a:latin typeface="Times New Roman"/>
                <a:cs typeface="Times New Roman"/>
              </a:rPr>
              <a:t>הבדל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5" name="167RogerWilliamsTheImpossibleDream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8000"/>
                            </p:stCondLst>
                            <p:childTnLst>
                              <p:par>
                                <p:cTn id="4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rcRect l="10115" t="10948" r="5584" b="9669"/>
          <a:stretch/>
        </p:blipFill>
        <p:spPr>
          <a:xfrm>
            <a:off x="395280" y="442800"/>
            <a:ext cx="8353440" cy="604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3635280" y="4005360"/>
            <a:ext cx="49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cc0000"/>
                </a:solidFill>
                <a:latin typeface="Times New Roman"/>
                <a:cs typeface="Times New Roman"/>
              </a:rPr>
              <a:t>המורה של טדי מהשנה הראשונה רשמה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cc0000"/>
                </a:solidFill>
                <a:latin typeface="Times New Roman"/>
                <a:cs typeface="Times New Roman"/>
              </a:rPr>
              <a:t>טדי ילד מבריק עם חיוך והתנהגות נעימה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rcRect l="7479" t="5890" r="5584" b="9669"/>
          <a:stretch/>
        </p:blipFill>
        <p:spPr>
          <a:xfrm>
            <a:off x="324000" y="333360"/>
            <a:ext cx="8424720" cy="613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395280" y="4365720"/>
            <a:ext cx="417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בשנה השנייה כתבה המורה:"טדי ילד מצטיין , אהוב על כל המורים והתלמידים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אולם התחילו בעיות עקב מחלה סופנית של אמו והחיים בבית הפכו למאבק ...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rcRect l="5584" t="10948" r="7105" b="9669"/>
          <a:stretch/>
        </p:blipFill>
        <p:spPr>
          <a:xfrm>
            <a:off x="395280" y="476280"/>
            <a:ext cx="8353440" cy="5977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3" name=""/>
          <p:cNvSpPr/>
          <p:nvPr/>
        </p:nvSpPr>
        <p:spPr>
          <a:xfrm>
            <a:off x="4643280" y="3789360"/>
            <a:ext cx="3816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המורה בכיתה השלישית רשמה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מותה של אמו היה קשה מאוד שבילו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הוא השתדל מאוד להצליח" אולם אבי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לא התעניין והחיים בבית ישפיעו עליו בזמן הקרוב אם לא ינקטו פעולות מסוימות 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rcRect l="6179" t="10948" r="9553" b="9669"/>
          <a:stretch/>
        </p:blipFill>
        <p:spPr>
          <a:xfrm>
            <a:off x="395280" y="404640"/>
            <a:ext cx="8424720" cy="6108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589320" y="765000"/>
            <a:ext cx="3084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המורה בכיתה הרביעית כתבה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טדי לא מראה כל התענינו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בכל מה שקורה בביה"ס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אין לו חברים ולעיתים קרובו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פשוט נרדם בכיתה 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rcRect l="6350" t="10948" r="9449" b="9669"/>
          <a:stretch/>
        </p:blipFill>
        <p:spPr>
          <a:xfrm>
            <a:off x="395280" y="404640"/>
            <a:ext cx="8353440" cy="6053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468360" y="2708280"/>
            <a:ext cx="3446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cc0000"/>
                </a:solidFill>
                <a:latin typeface="Times New Roman"/>
                <a:cs typeface="Times New Roman"/>
              </a:rPr>
              <a:t>עם סיום העיון בתיק , גב' תומפסו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cc0000"/>
                </a:solidFill>
                <a:latin typeface="Times New Roman"/>
                <a:cs typeface="Times New Roman"/>
              </a:rPr>
              <a:t>הבינה ופשוט הרגישה מבויש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cc0000"/>
                </a:solidFill>
                <a:latin typeface="Times New Roman"/>
                <a:cs typeface="Times New Roman"/>
              </a:rPr>
              <a:t>בפני עצמה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rcRect l="7261" t="12195" r="10233" b="10948"/>
          <a:stretch/>
        </p:blipFill>
        <p:spPr>
          <a:xfrm>
            <a:off x="395280" y="404640"/>
            <a:ext cx="8353440" cy="604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9" name=""/>
          <p:cNvSpPr/>
          <p:nvPr/>
        </p:nvSpPr>
        <p:spPr>
          <a:xfrm>
            <a:off x="539640" y="4076640"/>
            <a:ext cx="2881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cc0000"/>
                </a:solidFill>
                <a:latin typeface="Times New Roman"/>
                <a:cs typeface="Times New Roman"/>
              </a:rPr>
              <a:t>המורה הרגישה מבוכה גדול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cc0000"/>
                </a:solidFill>
                <a:latin typeface="Times New Roman"/>
                <a:cs typeface="Times New Roman"/>
              </a:rPr>
              <a:t>כאשר התלמידים הביאו א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cc0000"/>
                </a:solidFill>
                <a:latin typeface="Times New Roman"/>
                <a:cs typeface="Times New Roman"/>
              </a:rPr>
              <a:t>מתנות חג המולד ארוזות יפ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cc0000"/>
                </a:solidFill>
                <a:latin typeface="Times New Roman"/>
                <a:cs typeface="Times New Roman"/>
              </a:rPr>
              <a:t>ועטופות בנייר חגיג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rcRect l="6520" t="7169" r="4649" b="7169"/>
          <a:stretch/>
        </p:blipFill>
        <p:spPr>
          <a:xfrm>
            <a:off x="395280" y="404640"/>
            <a:ext cx="8353440" cy="6042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1" name=""/>
          <p:cNvSpPr/>
          <p:nvPr/>
        </p:nvSpPr>
        <p:spPr>
          <a:xfrm>
            <a:off x="5076720" y="3500280"/>
            <a:ext cx="316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רק המתנה שהביא טדי והוציא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מתוך סל הקניות הייתה ארוז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ברשלנות בנייר חום עבה.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192280" y="4797360"/>
            <a:ext cx="307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גב' תומפסון חשה כאב לפתוח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אותה בין שאר המתנות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rcRect l="6080" t="8416" r="4498" b="7169"/>
          <a:stretch/>
        </p:blipFill>
        <p:spPr>
          <a:xfrm>
            <a:off x="395280" y="476280"/>
            <a:ext cx="8353440" cy="6070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1805040" y="4365720"/>
            <a:ext cx="3259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התלמידים התחילו לצחוק כאש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המורה הוציאה מתוך האריז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צמיד משובץ באבנים עם מספ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אבנים חסרות.ובקבוק בוש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מלא רק רבע ממנו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rcRect l="6217" t="7169" r="3690" b="7169"/>
          <a:stretch/>
        </p:blipFill>
        <p:spPr>
          <a:xfrm>
            <a:off x="395280" y="404640"/>
            <a:ext cx="8424720" cy="612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6" name=""/>
          <p:cNvSpPr/>
          <p:nvPr/>
        </p:nvSpPr>
        <p:spPr>
          <a:xfrm>
            <a:off x="684360" y="836640"/>
            <a:ext cx="4319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צחוקם של הילדים פסק מיד עם הקריא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המתפעלת והנרגשת של גב' תומפסון ואמר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כמה יפה הצמיד וענדה אותו מיד על יד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והזליפה מעט מן הבושם על פרק ידה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rcRect l="6231" t="7509" r="4474" b="7169"/>
          <a:stretch/>
        </p:blipFill>
        <p:spPr>
          <a:xfrm>
            <a:off x="395280" y="333360"/>
            <a:ext cx="8424720" cy="6189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8" name=""/>
          <p:cNvSpPr/>
          <p:nvPr/>
        </p:nvSpPr>
        <p:spPr>
          <a:xfrm>
            <a:off x="1445760" y="4653000"/>
            <a:ext cx="4047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טדי נשאר אחרי הלימודים באותו יום רק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כדי לומר לגב' תומפסון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היום את מריחה בדיוק כמו אמא שלי</a:t>
            </a:r>
            <a:r>
              <a:rPr b="1" lang="he-IL" sz="2000" spc="-1" strike="noStrike">
                <a:solidFill>
                  <a:srgbClr val="ffffff"/>
                </a:solidFill>
                <a:latin typeface="Arial"/>
              </a:rPr>
              <a:t>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rcRect l="13757" t="11723" r="6647" b="9846"/>
          <a:stretch/>
        </p:blipFill>
        <p:spPr>
          <a:xfrm>
            <a:off x="250920" y="476280"/>
            <a:ext cx="8642160" cy="5904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5364000" y="3645000"/>
            <a:ext cx="3384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cc0000"/>
                </a:solidFill>
                <a:latin typeface="Times New Roman"/>
                <a:cs typeface="Times New Roman"/>
              </a:rPr>
              <a:t>בעודה  עומדת מול כיתה ש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cc0000"/>
                </a:solidFill>
                <a:latin typeface="Times New Roman"/>
                <a:cs typeface="Times New Roman"/>
              </a:rPr>
              <a:t>ילדי השנה החמישית ביו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cc0000"/>
                </a:solidFill>
                <a:latin typeface="Times New Roman"/>
                <a:cs typeface="Times New Roman"/>
              </a:rPr>
              <a:t>הראשון ללימודים הסתכלה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cc0000"/>
                </a:solidFill>
                <a:latin typeface="Times New Roman"/>
                <a:cs typeface="Times New Roman"/>
              </a:rPr>
              <a:t>גב' תומפסון סביבה ע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cc0000"/>
                </a:solidFill>
                <a:latin typeface="Times New Roman"/>
                <a:cs typeface="Times New Roman"/>
              </a:rPr>
              <a:t>התלמידים ואמרה משפ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cc0000"/>
                </a:solidFill>
                <a:latin typeface="Times New Roman"/>
                <a:cs typeface="Times New Roman"/>
              </a:rPr>
              <a:t>שאינו אמיתי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rcRect l="6520" t="8416" r="7105" b="9669"/>
          <a:stretch/>
        </p:blipFill>
        <p:spPr>
          <a:xfrm>
            <a:off x="395280" y="404640"/>
            <a:ext cx="8424720" cy="612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684360" y="3068640"/>
            <a:ext cx="2374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אחרי שכל התלמידי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עזבו המורה ישב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והתייפחה שעה ארוכה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rcRect l="8603" t="5890" r="7998" b="14721"/>
          <a:stretch/>
        </p:blipFill>
        <p:spPr>
          <a:xfrm>
            <a:off x="395280" y="404640"/>
            <a:ext cx="8353440" cy="6097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539640" y="3716280"/>
            <a:ext cx="252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באותו יום ממש הפסיק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גב' תומפסון להיות מור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למתמטיקה וכתיב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rcRect l="8986" t="9694" r="7644" b="9669"/>
          <a:stretch/>
        </p:blipFill>
        <p:spPr>
          <a:xfrm>
            <a:off x="395280" y="333360"/>
            <a:ext cx="8353440" cy="615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539640" y="4653000"/>
            <a:ext cx="17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והתחילה להיו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מחנכת לילדים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rcRect l="7025" t="12195" r="12416" b="10948"/>
          <a:stretch/>
        </p:blipFill>
        <p:spPr>
          <a:xfrm>
            <a:off x="395280" y="404640"/>
            <a:ext cx="8353440" cy="6131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"/>
          <p:cNvSpPr/>
          <p:nvPr/>
        </p:nvSpPr>
        <p:spPr>
          <a:xfrm>
            <a:off x="4859280" y="3645000"/>
            <a:ext cx="3220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הגב" תומפסון החליטה לת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תשומת לב מיוחדת לטדי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מיד כשהתחילה לעבוד איתו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המוח שלו התעורר לחיים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rcRect l="7275" t="7169" r="9486" b="14721"/>
          <a:stretch/>
        </p:blipFill>
        <p:spPr>
          <a:xfrm>
            <a:off x="395280" y="404640"/>
            <a:ext cx="8353440" cy="603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6031800" y="1484280"/>
            <a:ext cx="238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ככל שעודדה אותו יות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כך התקדם במהירות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rcRect l="7479" t="10948" r="8008" b="9669"/>
          <a:stretch/>
        </p:blipFill>
        <p:spPr>
          <a:xfrm>
            <a:off x="395280" y="404640"/>
            <a:ext cx="8353440" cy="604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2771640" y="3500280"/>
            <a:ext cx="549612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עד סוף שנת הלמודים טדי נעשה לאח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התלמידים המבריקים בכיתה , ולמרו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שבתחילת השנה הבטיחה לאהוב את כ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הילדים במידה השווה , טדי הפך להיו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חביב המורה </a:t>
            </a:r>
            <a:r>
              <a:rPr b="1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rcRect l="7105" t="10948" r="8792" b="9669"/>
          <a:stretch/>
        </p:blipFill>
        <p:spPr>
          <a:xfrm>
            <a:off x="395280" y="476280"/>
            <a:ext cx="8353440" cy="6091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2" name=""/>
          <p:cNvSpPr/>
          <p:nvPr/>
        </p:nvSpPr>
        <p:spPr>
          <a:xfrm>
            <a:off x="4859280" y="620640"/>
            <a:ext cx="36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שנה  מאוחר יותר היא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מצאה מתחת לדלת פתק מטדי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בו כתב לה שהיא הייתה המור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הטובה ביותר שהייתה לו כל חייו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rcRect l="9335" t="12195" r="6198" b="9669"/>
          <a:stretch/>
        </p:blipFill>
        <p:spPr>
          <a:xfrm>
            <a:off x="395280" y="476280"/>
            <a:ext cx="8424720" cy="603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940720" y="2708280"/>
            <a:ext cx="2727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חלפו שש שנים עד שקבל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הודעה נוספת מטד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rcRect l="7290" t="10948" r="5400" b="9669"/>
          <a:stretch/>
        </p:blipFill>
        <p:spPr>
          <a:xfrm>
            <a:off x="395280" y="779400"/>
            <a:ext cx="8424720" cy="607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6" name=""/>
          <p:cNvSpPr/>
          <p:nvPr/>
        </p:nvSpPr>
        <p:spPr>
          <a:xfrm>
            <a:off x="5364000" y="4941720"/>
            <a:ext cx="319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הוא כתב שסיים בית ספר תיכו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השלישי בכיתה , ושעדיין היא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המורה הטובה ביותר שהיית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לו עד היום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rcRect l="6321" t="10948" r="9491" b="9669"/>
          <a:stretch/>
        </p:blipFill>
        <p:spPr>
          <a:xfrm>
            <a:off x="324000" y="333360"/>
            <a:ext cx="8496000" cy="6188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468360" y="4149720"/>
            <a:ext cx="2484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לפחות עוד ארבע שני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ואז קבלה המורה מכת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נוסף בו כתב שלמרו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שעברו עליו זמנים קשי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הוא נשאר בבית הספר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rcRect l="9302" t="12195" r="6307" b="9669"/>
          <a:stretch/>
        </p:blipFill>
        <p:spPr>
          <a:xfrm>
            <a:off x="395280" y="404640"/>
            <a:ext cx="8424720" cy="6088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5817600" y="4005360"/>
            <a:ext cx="292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cc0000"/>
                </a:solidFill>
                <a:latin typeface="Times New Roman"/>
                <a:cs typeface="Times New Roman"/>
              </a:rPr>
              <a:t>השגור בדרך כלל בפיהן ש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cc0000"/>
                </a:solidFill>
                <a:latin typeface="Times New Roman"/>
                <a:cs typeface="Times New Roman"/>
              </a:rPr>
              <a:t>רוב המורות: תלמידיי היקרי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cc0000"/>
                </a:solidFill>
                <a:latin typeface="Times New Roman"/>
                <a:cs typeface="Times New Roman"/>
              </a:rPr>
              <a:t>אני אוהבת את כולכ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cc0000"/>
                </a:solidFill>
                <a:latin typeface="Times New Roman"/>
                <a:cs typeface="Times New Roman"/>
              </a:rPr>
              <a:t>במידה שווה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rcRect l="6321" t="10948" r="9491" b="9669"/>
          <a:stretch/>
        </p:blipFill>
        <p:spPr>
          <a:xfrm>
            <a:off x="539640" y="404640"/>
            <a:ext cx="8139240" cy="6116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0" name=""/>
          <p:cNvSpPr/>
          <p:nvPr/>
        </p:nvSpPr>
        <p:spPr>
          <a:xfrm>
            <a:off x="611280" y="2708280"/>
            <a:ext cx="237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בקרוב יסיים ויהי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בוגר בית הספר התיכו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בהצטיינות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rcRect l="6520" t="7169" r="8419" b="13474"/>
          <a:stretch/>
        </p:blipFill>
        <p:spPr>
          <a:xfrm>
            <a:off x="395280" y="404640"/>
            <a:ext cx="8424720" cy="612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2" name=""/>
          <p:cNvSpPr/>
          <p:nvPr/>
        </p:nvSpPr>
        <p:spPr>
          <a:xfrm>
            <a:off x="550440" y="2924280"/>
            <a:ext cx="2478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שוב אישר לגב"תמפסו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כי הייתה המורה הטוב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ביותר מימיו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rcRect l="6520" t="10948" r="8027" b="9669"/>
          <a:stretch/>
        </p:blipFill>
        <p:spPr>
          <a:xfrm>
            <a:off x="324000" y="476280"/>
            <a:ext cx="8353440" cy="6048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324000" y="549360"/>
            <a:ext cx="2092320" cy="29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שוב היגעה מכתב בו כתב כי לאחר שקיבל את תעודת הבגרות שלו החליט ללכת עוד צעד קדימה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ועדיין היא המורה הטובה ביותר שהיה לו מעולם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rcRect l="7266" t="10948" r="8211" b="9669"/>
          <a:stretch/>
        </p:blipFill>
        <p:spPr>
          <a:xfrm>
            <a:off x="395280" y="404640"/>
            <a:ext cx="8353440" cy="612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6" name=""/>
          <p:cNvSpPr/>
          <p:nvPr/>
        </p:nvSpPr>
        <p:spPr>
          <a:xfrm>
            <a:off x="468360" y="620640"/>
            <a:ext cx="2592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אולם השם שלו התארך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הוא חתם את המכתב בש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" דוקטור טדי סטאלרד 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rcRect l="10805" t="10948" r="5584" b="9669"/>
          <a:stretch/>
        </p:blipFill>
        <p:spPr>
          <a:xfrm>
            <a:off x="324000" y="476280"/>
            <a:ext cx="8496000" cy="6203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8" name=""/>
          <p:cNvSpPr/>
          <p:nvPr/>
        </p:nvSpPr>
        <p:spPr>
          <a:xfrm>
            <a:off x="727560" y="4941720"/>
            <a:ext cx="39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היה עוד מכתב נוסף באותו אביב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rcRect l="9378" t="10948" r="6321" b="9669"/>
          <a:stretch/>
        </p:blipFill>
        <p:spPr>
          <a:xfrm>
            <a:off x="395280" y="333360"/>
            <a:ext cx="8496360" cy="619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0" name=""/>
          <p:cNvSpPr/>
          <p:nvPr/>
        </p:nvSpPr>
        <p:spPr>
          <a:xfrm>
            <a:off x="5292720" y="3429000"/>
            <a:ext cx="28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טדי סיפר כי פגש נערה והוא עומד להתחתן .</a:t>
            </a:r>
            <a:r>
              <a:rPr b="0" lang="he-IL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rcRect l="4649" t="10948" r="11702" b="9669"/>
          <a:stretch/>
        </p:blipFill>
        <p:spPr>
          <a:xfrm>
            <a:off x="324000" y="333360"/>
            <a:ext cx="8569080" cy="626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6221160" y="4365720"/>
            <a:ext cx="2487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הוא סיפר כי אבא של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נפטר לפני שנים והו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תוהה האם גב" תומפסו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תיהיה מוכנה לקחת א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המקום בחתונה השמור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בד"כ לאם החתן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rcRect l="11471" t="10948" r="6321" b="9669"/>
          <a:stretch/>
        </p:blipFill>
        <p:spPr>
          <a:xfrm>
            <a:off x="324000" y="333360"/>
            <a:ext cx="8569080" cy="626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4" name=""/>
          <p:cNvSpPr/>
          <p:nvPr/>
        </p:nvSpPr>
        <p:spPr>
          <a:xfrm>
            <a:off x="6012000" y="2276640"/>
            <a:ext cx="252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כמובן שגב" תומפםו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הסכימה , נחשו מה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rcRect l="12208" t="10948" r="5584" b="9669"/>
          <a:stretch/>
        </p:blipFill>
        <p:spPr>
          <a:xfrm>
            <a:off x="324000" y="333360"/>
            <a:ext cx="8496000" cy="626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395280" y="692280"/>
            <a:ext cx="2089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גב"תומפסון ענד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את הצמיד בו חסרו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מספר אבנים ובנוס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לכך וידאה שהי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מתבשמת בבוש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שטדי זכר שאמו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התבשמה בו בחג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האחרון שביל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איתה יחד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rcRect l="9142" t="10948" r="5584" b="9669"/>
          <a:stretch/>
        </p:blipFill>
        <p:spPr>
          <a:xfrm>
            <a:off x="324000" y="333360"/>
            <a:ext cx="8496000" cy="6218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8" name=""/>
          <p:cNvSpPr/>
          <p:nvPr/>
        </p:nvSpPr>
        <p:spPr>
          <a:xfrm>
            <a:off x="4788000" y="3573360"/>
            <a:ext cx="3690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הם חיבקו זו את זה וטדי לחש ע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אוזנה של גב" תןמפסון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תודה שהאמת בי . תודה שנתת ל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את תחושת החשיבות והראית ל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שאני יכול לעשות שינוי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rcRect l="11655" t="12195" r="6520" b="9669"/>
          <a:stretch/>
        </p:blipFill>
        <p:spPr>
          <a:xfrm>
            <a:off x="395280" y="333360"/>
            <a:ext cx="8424720" cy="619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4932360" y="3860640"/>
            <a:ext cx="36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cc0000"/>
                </a:solidFill>
                <a:latin typeface="Times New Roman"/>
                <a:cs typeface="Times New Roman"/>
              </a:rPr>
              <a:t>כמובן שזה דבר "בלתי אפשרי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cc0000"/>
                </a:solidFill>
                <a:latin typeface="Times New Roman"/>
                <a:cs typeface="Times New Roman"/>
              </a:rPr>
              <a:t>מפני שלפניה בשורה הראשונ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cc0000"/>
                </a:solidFill>
                <a:latin typeface="Times New Roman"/>
                <a:cs typeface="Times New Roman"/>
              </a:rPr>
              <a:t>ישב בכסא ברפיון, ילדון קט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cc0000"/>
                </a:solidFill>
                <a:latin typeface="Times New Roman"/>
                <a:cs typeface="Times New Roman"/>
              </a:rPr>
              <a:t>בשם "טדי סטאלרד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rcRect l="8957" t="10948" r="7063" b="9669"/>
          <a:stretch/>
        </p:blipFill>
        <p:spPr>
          <a:xfrm>
            <a:off x="324000" y="333360"/>
            <a:ext cx="8496000" cy="6176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324000" y="3500280"/>
            <a:ext cx="2454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גב"תומסון עם דמעו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בעניים לחשה בחזר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טדי, אתה הבנתה הכ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הפוך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rcRect l="8419" t="10948" r="7479" b="9669"/>
          <a:stretch/>
        </p:blipFill>
        <p:spPr>
          <a:xfrm>
            <a:off x="250920" y="333360"/>
            <a:ext cx="8642160" cy="6221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468360" y="4508640"/>
            <a:ext cx="2016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אתה הוא זה שלימ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אותי שאני יכול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לעשות את השינו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לא ידעתי ללמד ע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שפגשתי אותך !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rcRect l="7800" t="7169" r="10171" b="13474"/>
          <a:stretch/>
        </p:blipFill>
        <p:spPr>
          <a:xfrm>
            <a:off x="179280" y="333360"/>
            <a:ext cx="8785440" cy="623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4" name=""/>
          <p:cNvSpPr/>
          <p:nvPr/>
        </p:nvSpPr>
        <p:spPr>
          <a:xfrm>
            <a:off x="4932360" y="5157720"/>
            <a:ext cx="378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אינך יודע אף פעם איזו השפע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תיהי הלך על החיים של אחרי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עלידי שתנקוט בפעולה או לא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rcRect l="7219" t="10948" r="11012" b="9669"/>
          <a:stretch/>
        </p:blipFill>
        <p:spPr>
          <a:xfrm>
            <a:off x="395280" y="404640"/>
            <a:ext cx="8496360" cy="6226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476360" y="5734080"/>
            <a:ext cx="804960" cy="6332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60800" y="5826240"/>
            <a:ext cx="72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.F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067280" y="5300640"/>
            <a:ext cx="46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אנא קח לתשומת ליבך עובדה זו במהל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חייך ורק העז לנסות דברים באופן שונה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בחייהם של אחרים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rcRect l="8631" t="10948" r="7091" b="9669"/>
          <a:stretch/>
        </p:blipFill>
        <p:spPr>
          <a:xfrm>
            <a:off x="324000" y="476280"/>
            <a:ext cx="8353440" cy="607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468360" y="4149720"/>
            <a:ext cx="2662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גב' תומפסון הביטה לעב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טדי ושמה לב שהילד אינ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משתף פעולה,אינו משח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עם חברים בגדיו מרושלים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והוא נראה זקוק למקלח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דחופה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rcRect l="5584" t="10948" r="9501" b="9669"/>
          <a:stretch/>
        </p:blipFill>
        <p:spPr>
          <a:xfrm>
            <a:off x="395280" y="446040"/>
            <a:ext cx="8353440" cy="5989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324000" y="1557360"/>
            <a:ext cx="36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cc0000"/>
                </a:solidFill>
                <a:latin typeface="Times New Roman"/>
                <a:cs typeface="Times New Roman"/>
              </a:rPr>
              <a:t>טדי בהחלט יכול להיות ילד לא נעים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rcRect l="5395" t="10948" r="8726" b="9669"/>
          <a:stretch/>
        </p:blipFill>
        <p:spPr>
          <a:xfrm>
            <a:off x="395280" y="446040"/>
            <a:ext cx="8353440" cy="6007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1692360" y="5516640"/>
            <a:ext cx="695484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אני מגיע לנקודה בה גב"תומסון בסוג מסוים של הנאה לוקחת את ניירותי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של טדי ומסמנת בעט אדום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ומוסיפה את המילה "ניכשל" בראש הדף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rcRect l="8631" t="10948" r="5584" b="9669"/>
          <a:stretch/>
        </p:blipFill>
        <p:spPr>
          <a:xfrm>
            <a:off x="395280" y="404640"/>
            <a:ext cx="8353440" cy="6058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4500720" y="2637000"/>
            <a:ext cx="40305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cc0000"/>
                </a:solidFill>
                <a:latin typeface="Times New Roman"/>
                <a:cs typeface="Times New Roman"/>
              </a:rPr>
              <a:t>בית הספר בו מלמדת גב"תומפסון ביק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cc0000"/>
                </a:solidFill>
                <a:latin typeface="Times New Roman"/>
                <a:cs typeface="Times New Roman"/>
              </a:rPr>
              <a:t>מהמורה לעבור על התיקים הקודמים בה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cc0000"/>
                </a:solidFill>
                <a:latin typeface="Times New Roman"/>
                <a:cs typeface="Times New Roman"/>
              </a:rPr>
              <a:t>רשומים קורותיו של כל תלמיד, בנוש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cc0000"/>
                </a:solidFill>
                <a:latin typeface="Times New Roman"/>
                <a:cs typeface="Times New Roman"/>
              </a:rPr>
              <a:t>של ציונים והתנהגות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cc0000"/>
                </a:solidFill>
                <a:latin typeface="Times New Roman"/>
                <a:cs typeface="Times New Roman"/>
              </a:rPr>
              <a:t>גב" תומפסון השאירה את תיקו ש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cc0000"/>
                </a:solidFill>
                <a:latin typeface="Times New Roman"/>
                <a:cs typeface="Times New Roman"/>
              </a:rPr>
              <a:t>טדי אחרון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rcRect l="10294" t="10948" r="5584" b="9669"/>
          <a:stretch/>
        </p:blipFill>
        <p:spPr>
          <a:xfrm>
            <a:off x="395280" y="404640"/>
            <a:ext cx="8353440" cy="6026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8080200" y="68724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95120" y="3981600"/>
            <a:ext cx="384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cc0000"/>
                </a:solidFill>
                <a:latin typeface="Times New Roman"/>
                <a:cs typeface="Times New Roman"/>
              </a:rPr>
              <a:t>היא עברה על התוכן והופתעה לגלות .</a:t>
            </a:r>
            <a:r>
              <a:rPr b="0" lang="he-IL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5:38:34Z</dcterms:created>
  <dc:creator>I. Frieling / M. Mustacchi</dc:creator>
  <dc:description/>
  <dc:language>en-US</dc:language>
  <cp:lastModifiedBy>Ilan Frieling</cp:lastModifiedBy>
  <dcterms:modified xsi:type="dcterms:W3CDTF">2008-08-06T19:11:51Z</dcterms:modified>
  <cp:revision>181</cp:revision>
  <dc:subject/>
  <dc:title>Make A Difference - English &amp; Hebrew</dc:title>
</cp:coreProperties>
</file>