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3EF-8B90-4D3F-BA58-87F2973B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6CA-577D-4C8A-ABB0-0E560663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436-4818-44FE-8068-5A806F40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376-5B25-4DE9-A955-A5F4D671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E8D-7297-4903-8887-6AE233F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241-E8C3-4D29-9D5E-9DC6C32E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0A1-BBB6-4F3B-92AC-27D7B12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03E-BEA8-492C-9BE3-99512B6B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EF3-0582-4D77-8D05-B394D92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08C-EAB6-45B0-88AC-88DF192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5DB-18AD-45D0-BBA9-AEB9E11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22F-3C52-4EAF-933A-5DA1B820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FB8D-02B2-43FE-933F-ADD2D646786E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077560" cy="742968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5"/>
          <p:cNvCxnSpPr/>
          <p:nvPr/>
        </p:nvCxnSpPr>
        <p:spPr>
          <a:xfrm flipH="1" flipV="1">
            <a:off x="2571480" y="5714640"/>
            <a:ext cx="2643840" cy="2160"/>
          </a:xfrm>
          <a:prstGeom prst="straightConnector1">
            <a:avLst/>
          </a:prstGeom>
          <a:ln w="2232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5" name="Straight Arrow Connector 7"/>
          <p:cNvCxnSpPr/>
          <p:nvPr/>
        </p:nvCxnSpPr>
        <p:spPr>
          <a:xfrm flipV="1">
            <a:off x="5715000" y="5285520"/>
            <a:ext cx="643320" cy="35820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6" name="TextBox 8"/>
          <p:cNvSpPr/>
          <p:nvPr/>
        </p:nvSpPr>
        <p:spPr>
          <a:xfrm>
            <a:off x="6429240" y="4786200"/>
            <a:ext cx="300060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נקודת הכניסה לרוורסל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83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0"/>
          <p:cNvCxnSpPr/>
          <p:nvPr/>
        </p:nvCxnSpPr>
        <p:spPr>
          <a:xfrm>
            <a:off x="2428560" y="6071760"/>
            <a:ext cx="435852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12"/>
          <p:cNvSpPr/>
          <p:nvPr/>
        </p:nvSpPr>
        <p:spPr>
          <a:xfrm>
            <a:off x="6929280" y="5857920"/>
            <a:ext cx="221472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נקודת הסטופ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83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11"/>
          <p:cNvCxnSpPr/>
          <p:nvPr/>
        </p:nvCxnSpPr>
        <p:spPr>
          <a:xfrm flipH="1" flipV="1">
            <a:off x="8500320" y="1142640"/>
            <a:ext cx="1429560" cy="21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0" name="TextBox 13"/>
          <p:cNvSpPr/>
          <p:nvPr/>
        </p:nvSpPr>
        <p:spPr>
          <a:xfrm>
            <a:off x="6000840" y="1000080"/>
            <a:ext cx="23572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84.99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איזור ההתנגד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14"/>
          <p:cNvCxnSpPr/>
          <p:nvPr/>
        </p:nvCxnSpPr>
        <p:spPr>
          <a:xfrm>
            <a:off x="2356920" y="6643800"/>
            <a:ext cx="715320" cy="21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2" name="TextBox 15"/>
          <p:cNvSpPr/>
          <p:nvPr/>
        </p:nvSpPr>
        <p:spPr>
          <a:xfrm>
            <a:off x="3143160" y="6500880"/>
            <a:ext cx="1214640" cy="2764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0000"/>
                </a:solidFill>
                <a:latin typeface="Arial"/>
              </a:rPr>
              <a:t>ווליום מתגב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6:55:53Z</dcterms:created>
  <dc:creator>ruven</dc:creator>
  <dc:description/>
  <dc:language>en-US</dc:language>
  <cp:lastModifiedBy>ruven</cp:lastModifiedBy>
  <dcterms:modified xsi:type="dcterms:W3CDTF">2009-06-01T20:30:22Z</dcterms:modified>
  <cp:revision>5</cp:revision>
  <dc:subject/>
  <dc:title>Slide 1</dc:title>
</cp:coreProperties>
</file>