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E82-076F-4804-8FDB-0002E05C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820-9CA7-4626-B807-6178E1A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62C-9B60-4076-9419-A93E6E61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3DF-876E-4E81-9B92-75F71690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3DE-F2FC-461E-A681-67D7062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D37-07F7-458C-8C2B-00172749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FC1-4102-46C7-8A23-7861FC97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EEA-6C73-43D3-88F8-2FABF3E6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F1A-8742-4C87-A9F6-460E9175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23D-833C-496F-A98D-9964443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45D-0AE4-4E77-9A36-60A57E4C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B84-29C2-4DEE-940F-D7917C8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8C55-3CF5-4F8B-A094-B846AAB89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23:36:01Z</dcterms:created>
  <dc:creator>amit</dc:creator>
  <dc:description/>
  <dc:language>en-US</dc:language>
  <cp:lastModifiedBy>amit</cp:lastModifiedBy>
  <dcterms:modified xsi:type="dcterms:W3CDTF">2009-06-20T23:36:12Z</dcterms:modified>
  <cp:revision>1</cp:revision>
  <dc:subject/>
  <dc:title>מצגת של PowerPoint</dc:title>
</cp:coreProperties>
</file>