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ird_2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Jet_767_PassBy.wav" ContentType="audio/x-wav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7D2-2030-46BE-8D69-9AE771BE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88F-D011-4B04-93D6-9236A66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B12-EA99-40C9-8A64-98882ECB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6E0-E52E-4D65-AE10-045CB673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F52-44CF-4164-9B1B-AA036AC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711-1AE5-4FAC-9EBF-B58A268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BD9-1B67-4C0F-802D-F6A88008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C89-8063-404A-8420-7C6DB150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0CF-FA3D-467B-94B3-0C10125E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E46-1434-427F-B8F6-BD109665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BF2-A589-4D5B-9A5A-C6BB652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577-FEF2-4CAC-9ADA-A91503D5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EBC-4ADE-4531-94C2-AE29CE399F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ird_2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t_767_PassBy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tzuma.co.il/natbug2" TargetMode="External"/><Relationship Id="rId2" Type="http://schemas.openxmlformats.org/officeDocument/2006/relationships/hyperlink" Target="http://www.atzuma.co.il/natbug2" TargetMode="External"/><Relationship Id="rId3" Type="http://schemas.openxmlformats.org/officeDocument/2006/relationships/hyperlink" Target="http://www.atzuma.co.il/natbug2" TargetMode="External"/><Relationship Id="rId4" Type="http://schemas.openxmlformats.org/officeDocument/2006/relationships/hyperlink" Target="http://www.atzuma.co.il/natbug2" TargetMode="External"/><Relationship Id="rId5" Type="http://schemas.openxmlformats.org/officeDocument/2006/relationships/hyperlink" Target="http://www.atzuma.co.il/natbug2" TargetMode="External"/><Relationship Id="rId6" Type="http://schemas.openxmlformats.org/officeDocument/2006/relationships/hyperlink" Target="http://www.atzuma.co.il/natbug2" TargetMode="External"/><Relationship Id="rId7" Type="http://schemas.openxmlformats.org/officeDocument/2006/relationships/hyperlink" Target="http://www.atzuma.co.il/natbug2" TargetMode="External"/><Relationship Id="rId8" Type="http://schemas.openxmlformats.org/officeDocument/2006/relationships/hyperlink" Target="http://www.atzuma.co.il/natbug2" TargetMode="External"/><Relationship Id="rId9" Type="http://schemas.openxmlformats.org/officeDocument/2006/relationships/hyperlink" Target="http://www.atzuma.co.il/natbug2" TargetMode="External"/><Relationship Id="rId10" Type="http://schemas.openxmlformats.org/officeDocument/2006/relationships/hyperlink" Target="http://www.atzuma.co.il/natbug2" TargetMode="External"/><Relationship Id="rId11" Type="http://schemas.openxmlformats.org/officeDocument/2006/relationships/hyperlink" Target="http://www.atzuma.co.il/natbug2" TargetMode="External"/><Relationship Id="rId12" Type="http://schemas.openxmlformats.org/officeDocument/2006/relationships/hyperlink" Target="http://www.biglal.co.il/websites/amakim/1058.asp" TargetMode="External"/><Relationship Id="rId13" Type="http://schemas.openxmlformats.org/officeDocument/2006/relationships/hyperlink" Target="http://www.biglal.co.il/websites/amakim/1058.asp" TargetMode="External"/><Relationship Id="rId14" Type="http://schemas.openxmlformats.org/officeDocument/2006/relationships/hyperlink" Target="http://www.biglal.co.il/websites/amakim/1058.asp" TargetMode="External"/><Relationship Id="rId15" Type="http://schemas.openxmlformats.org/officeDocument/2006/relationships/hyperlink" Target="http://www.biglal.co.il/websites/amakim/1058.asp" TargetMode="External"/><Relationship Id="rId16" Type="http://schemas.openxmlformats.org/officeDocument/2006/relationships/hyperlink" Target="http://www.biglal.co.il/websites/amakim/1058.asp" TargetMode="External"/><Relationship Id="rId17" Type="http://schemas.openxmlformats.org/officeDocument/2006/relationships/hyperlink" Target="http://www.biglal.co.il/websites/amakim/1058.asp" TargetMode="External"/><Relationship Id="rId18" Type="http://schemas.openxmlformats.org/officeDocument/2006/relationships/hyperlink" Target="http://www.biglal.co.il/websites/amakim/1058.asp" TargetMode="External"/><Relationship Id="rId19" Type="http://schemas.openxmlformats.org/officeDocument/2006/relationships/hyperlink" Target="http://www.biglal.co.il/websites/amakim/1058.asp" TargetMode="External"/><Relationship Id="rId20" Type="http://schemas.openxmlformats.org/officeDocument/2006/relationships/hyperlink" Target="http://www.biglal.co.il/websites/amakim/1058.asp" TargetMode="External"/><Relationship Id="rId21" Type="http://schemas.openxmlformats.org/officeDocument/2006/relationships/hyperlink" Target="http://www.biglal.co.il/websites/amakim/1058.asp" TargetMode="External"/><Relationship Id="rId22" Type="http://schemas.openxmlformats.org/officeDocument/2006/relationships/hyperlink" Target="http://www.biglal.co.il/websites/amakim/1058.asp" TargetMode="External"/><Relationship Id="rId23" Type="http://schemas.openxmlformats.org/officeDocument/2006/relationships/hyperlink" Target="http://www.biglal.co.il/websites/amakim/1058.asp" TargetMode="External"/><Relationship Id="rId24" Type="http://schemas.openxmlformats.org/officeDocument/2006/relationships/hyperlink" Target="http://www.biglal.co.il/websites/amakim/1058.asp" TargetMode="External"/><Relationship Id="rId25" Type="http://schemas.openxmlformats.org/officeDocument/2006/relationships/hyperlink" Target="http://www.biglal.co.il/websites/amakim/1058.asp" TargetMode="External"/><Relationship Id="rId26" Type="http://schemas.openxmlformats.org/officeDocument/2006/relationships/hyperlink" Target="http://www.biglal.co.il/websites/amakim/1058.asp" TargetMode="External"/><Relationship Id="rId27" Type="http://schemas.openxmlformats.org/officeDocument/2006/relationships/hyperlink" Target="http://www.biglal.co.il/websites/amakim/1058.asp" TargetMode="External"/><Relationship Id="rId28" Type="http://schemas.openxmlformats.org/officeDocument/2006/relationships/hyperlink" Target="http://www.biglal.co.il/websites/amakim/1058.asp" TargetMode="External"/><Relationship Id="rId2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ird_2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ird_2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ird_2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ird_2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Jet_767_PassBy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333399"/>
                </a:solidFill>
                <a:latin typeface="Arial"/>
              </a:rPr>
              <a:t>עמק יזרעא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  <p:sndAc>
      <p:stSnd>
        <p:snd r:embed="rId2" name="bird_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ממשלת ישראל החליטה להקים את נתב"ג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6000"/>
            </a:b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בעמק יזרעאל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ffffff"/>
                </a:solidFill>
                <a:latin typeface="Arial"/>
              </a:rPr>
              <a:t>נתב"ג </a:t>
            </a:r>
            <a:r>
              <a:rPr b="0" lang="he-IL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e-IL" sz="6000" spc="-1" strike="noStrike">
                <a:solidFill>
                  <a:srgbClr val="ffffff"/>
                </a:solidFill>
                <a:latin typeface="Arial"/>
              </a:rPr>
              <a:t> יצור הרס טוטאלי של הנוף, האדמה והמורשת הישראלית.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הממשלה לא ביצעה סקרים סביבתיים, התעלמה לחלוטין משיקולי סביבה, בריאות, אופי האזור ורצון הציבור הרחב ותושבי האזור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אם לא נעצור את ההחלטה, נמצא את עמק יזרעאל בשנת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025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ככה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319120"/>
            <a:ext cx="827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עוצרים את התכנית הרעה הזו!</a:t>
            </a:r>
            <a:br>
              <a:rPr sz="4800"/>
            </a:b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חותמים על עצומה </a:t>
            </a:r>
            <a:br>
              <a:rPr sz="4800"/>
            </a:b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ותורמים להמשך המאבק </a:t>
            </a:r>
            <a:br>
              <a:rPr sz="4800"/>
            </a:b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עד שהממשלה תבין </a:t>
            </a:r>
            <a:br>
              <a:rPr sz="4800"/>
            </a:br>
            <a:r>
              <a:rPr b="0" lang="he-IL" sz="4800" spc="-1" strike="noStrike" u="sng">
                <a:solidFill>
                  <a:srgbClr val="ffffff"/>
                </a:solidFill>
                <a:uFillTx/>
                <a:latin typeface="Arial"/>
              </a:rPr>
              <a:t>שאין</a:t>
            </a: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 לנו ארץ אחרת.</a:t>
            </a:r>
            <a:br>
              <a:rPr sz="4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he-I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he-IL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tzuma</a:t>
            </a:r>
            <a:r>
              <a:rPr b="0" lang="he-IL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</a:t>
            </a:r>
            <a:r>
              <a:rPr b="0" lang="he-IL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il</a:t>
            </a:r>
            <a:r>
              <a:rPr b="0" lang="he-IL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atbug2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516640"/>
            <a:ext cx="89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 u="sng">
                <a:solidFill>
                  <a:srgbClr val="ffff00"/>
                </a:solidFill>
                <a:uFillTx/>
                <a:latin typeface="Arial"/>
              </a:rPr>
              <a:t>כיצד ניתן לתרו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Arial"/>
              </a:rPr>
              <a:t>באמצעות העברה בנקאית: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בנק לאומי (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) - סניף זייד בקרית טבעון (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896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). עבור 'עמקים ומרחבים'. מספר חשבון : 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4285864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00"/>
                </a:solidFill>
                <a:latin typeface="Arial"/>
              </a:rPr>
              <a:t>באמצעות שליחת צ'ק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 לכתובת: 'עמקים ומרחבים' ת.ד. 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496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 רמת ישי, מיקוד 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30095</a:t>
            </a:r>
            <a:r>
              <a:rPr b="0" lang="he-IL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ffffff"/>
                </a:solidFill>
                <a:latin typeface="Arial"/>
              </a:rPr>
              <a:t>*** "עמקים ומרחבים" היא עמותה רשומה המפוקחת ע"י רשם העמותו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4724280"/>
            <a:ext cx="69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לפרטים נוספים כנסו ל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he-IL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</a:t>
            </a:r>
            <a:r>
              <a:rPr b="0" lang="he-IL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iglal</a:t>
            </a:r>
            <a:r>
              <a:rPr b="0" lang="he-IL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co</a:t>
            </a:r>
            <a:r>
              <a:rPr b="0" lang="he-IL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il</a:t>
            </a:r>
            <a:r>
              <a:rPr b="0" lang="he-IL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ebsites</a:t>
            </a:r>
            <a:r>
              <a:rPr b="0" lang="he-IL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amakim</a:t>
            </a:r>
            <a:r>
              <a:rPr b="0" lang="he-IL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1058</a:t>
            </a:r>
            <a:r>
              <a:rPr b="0" lang="he-IL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עמק יזרעא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עמק יזרעא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  <p:sndAc>
      <p:stSnd>
        <p:snd r:embed="rId2" name="bird_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עמק יזרעא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  <p:sndAc>
      <p:stSnd>
        <p:snd r:embed="rId2" name="bird_2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עמק יזרעא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  <p:sndAc>
      <p:stSnd>
        <p:snd r:embed="rId2" name="bird_2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עמק יזרעא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עמק יזרעא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  <p:sndAc>
      <p:stSnd>
        <p:snd r:embed="rId2" name="bird_2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36520"/>
            <a:ext cx="9178920" cy="80215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  <p:sndAc>
      <p:stSnd>
        <p:snd r:embed="rId2" name="Jet_767_PassB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ffffff"/>
                </a:solidFill>
                <a:latin typeface="Arial"/>
              </a:rPr>
              <a:t>לא מבינים את הקשר לתמונה האחרונה?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0:29:48Z</dcterms:created>
  <dc:creator>Roy Barnea</dc:creator>
  <dc:description/>
  <dc:language>en-US</dc:language>
  <cp:lastModifiedBy>Ezra</cp:lastModifiedBy>
  <dcterms:modified xsi:type="dcterms:W3CDTF">2009-11-08T18:49:12Z</dcterms:modified>
  <cp:revision>27</cp:revision>
  <dc:subject/>
  <dc:title>עמק יזרעאל  העמק הנעלם</dc:title>
</cp:coreProperties>
</file>