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49670-81DF-4DF2-9205-6245C1A4A0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8BE75-8EE4-4849-8969-DDB0D888E5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B4BDF-14FC-45E1-9E09-7E48A328FB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FC3DF-D749-4AEB-905E-21C182E0A0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3DAD9-37AD-4E40-B9BF-BD8470EB6A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467F5-25C7-45C6-B908-C5DD74B8A1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BBB91-A7B3-42B5-BAEA-1497A65D34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C98E2-B148-43FE-985B-B959AE1264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6168F-1911-42E9-8693-97E376EE48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8EB91-C634-44C1-A13C-D7FD29C806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5445B-C127-40AE-9F98-5C1C505BD4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1A862-035B-422D-BF9B-647E9502B6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90FE4-6AA8-47F1-B5D9-9FC3DCA322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2226C-8A98-4D94-975C-A22D6C74D0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B237F-AF55-4883-B843-A9BF8AC5D8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48719-2BD0-4EB3-AB7B-879B53965F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AD3F4-F47F-404C-8288-5B645E4DF9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97CED-70BE-465C-9BE2-D5C2369C7D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9169F-FD6F-4EBE-B2B8-63705CA213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625A9-7D88-4B87-938B-039869213E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06BE4-0144-47FB-BF61-6E80598A20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FDDD2-4043-4E7A-BBEB-12C69C0C2E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76E01-5FA0-4E00-8512-6C888FC7BB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DABEB-2299-4993-9085-C2FE4BCB7C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2083B-C767-4560-889C-A0C4ED9B09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AA8BE-801E-4CE6-9C3D-FEC801C325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7DA88-1986-4F4A-B398-5237BECAA4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7C14D-C7E2-4FB9-A761-24EA1C1331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F5AE8-FB45-4965-A4F8-90EA012DDA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ED600-BE41-4366-B423-4D8096D17B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E9A9D-2619-412D-934D-23498C7368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8035D-9E4F-4474-8C4A-42D2AC49BC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0D061-3555-4BFC-BA81-8D29D8E96A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A916B-C0E5-4C67-9DD2-57D10463E0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3536E-BC74-4DCE-90D2-2E662E9783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F8FCF-611D-4313-97C3-7F15399C06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EB628-F115-474E-B49B-8EF08F9385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7FADA-E988-4D77-8B76-38AA3A3BC6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3A87B-A364-45DB-BAD0-B8F43A1F0D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9FE3A-456B-4175-8D96-4E8A3352F6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C3B-026B-4B10-BD38-AE302114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1F5-9D37-4430-B761-0D81AB8C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651-2518-49CC-9A45-2F9EB073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E7B-6A40-40D9-8CB8-9F3021C7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B28-D348-49D4-9408-F4F2E30E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979-49DB-4403-807C-08040050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1A9-454B-40B4-9B95-2E3B9EAF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166-6A05-4DFC-B4E8-E59E1EAD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FE8A-E58B-4E09-BC86-04DE85C9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6E1-BC55-4CC8-88DD-CB0FE400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E04-1685-4CF7-A401-F5BF8ADF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BF6D-DD78-4338-A4DD-3E6C48A9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B178BA-3444-499F-BBF5-DF0AFE71DC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533520" y="914400"/>
            <a:ext cx="8001000" cy="441972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הסיפור העצוב של שקיות הפלסטיק התמימות, אותן החנויות נותנות לנו במתנה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4294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Arial"/>
              </a:rPr>
              <a:t>השקיות מוצאות את דרכן אל הים דרך הביובים ודרך הציוד ההידראולי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NN.com/technology   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16 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בנובמבר 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Arial"/>
              </a:rPr>
              <a:t>שקיות פלסטיק נראו צפות מצפון לחוג האיזור הארקטי ליד ספיצברגן ויותר דרומה, באיים המלדיב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724280" cy="33350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חוף  ארקטיקה פריטניקה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457200" y="152280"/>
            <a:ext cx="8305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Arial"/>
              </a:rPr>
              <a:t>שקיות הפלסטיק מהוות יותר מ-</a:t>
            </a:r>
            <a:r>
              <a:rPr b="0" lang="he-IL" sz="4000" spc="-1" strike="noStrike">
                <a:solidFill>
                  <a:srgbClr val="ffffff"/>
                </a:solidFill>
                <a:latin typeface="Arial"/>
              </a:rPr>
              <a:t>10%</a:t>
            </a:r>
            <a:r>
              <a:rPr b="0" lang="he-IL" sz="4000" spc="-1" strike="noStrike">
                <a:solidFill>
                  <a:srgbClr val="ffffff"/>
                </a:solidFill>
                <a:latin typeface="Arial"/>
              </a:rPr>
              <a:t> השפכים המגיעים לחופי ארצות הברי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מתוך תכנית מעקב השפכים של הספנות הלאומית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457200" y="152280"/>
            <a:ext cx="8305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Arial"/>
              </a:rPr>
              <a:t>שקיות הפלסטיק עוברות תהליך של פוטו-ניוון: עם הזמן הן מתפרקות לפטרו-פולימרים קטנים ורעילים יותר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tecnhology  -2007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16 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בנובמבר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4114800" cy="40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457200" y="15228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Arial"/>
              </a:rPr>
              <a:t>ובסוף הן יזהמו את הקרקעות ואת נתיבי הנהרות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553080" cy="4465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tecnhology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בנובמבר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324480" cy="4749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</a:rPr>
              <a:t>כתוצאה מכך, חלקיקים מיקרוסקופים יכולים להתחיל להשתלב בשרשרת המזון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tecnhology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007 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בנובמבר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153280" cy="5427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</a:rPr>
              <a:t>ההשפעה על חיות הים יכולה לגרום לאסון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WWF 2005 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דיוו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5040" cy="5244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457200" y="1522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ציפורים נתקעים ללא תקווה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WWF 2005 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דיוו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4100760" cy="5639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38797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57200" y="1522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</a:rPr>
              <a:t>כ-</a:t>
            </a:r>
            <a:r>
              <a:rPr b="0" lang="he-IL" sz="36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he-IL" sz="3600" spc="-1" strike="noStrike">
                <a:solidFill>
                  <a:srgbClr val="ffffff"/>
                </a:solidFill>
                <a:latin typeface="Arial"/>
              </a:rPr>
              <a:t> סוגים שונים של חיות הים, כולל הלווייתנים, דולפינים, כלבי-ים וצבים מתים בגלל שקי הפלסטיק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WWF 2005 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דיווח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4025880" cy="3797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4038480" cy="26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06280"/>
            <a:ext cx="8077320" cy="60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האגודה להגנת הטבע של ארצות הברית הודיעה שבכל שנה משתמשים, בכל העולם, בין  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 ביליון לטריליון שקיות פלסטיק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(הודעה שהופיע בנשיונל גיאוגרפיק ב-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בספטמבר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2003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610480" cy="48373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</a:rPr>
              <a:t>הם מתים כי הם בולעים את שקיות הפלסטיק, כי הם חושבים שזה מזו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WWF 2005 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דיווח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Tahoma"/>
              </a:rPr>
              <a:t>אז</a:t>
            </a:r>
            <a:r>
              <a:rPr b="0" lang="he-IL" sz="4800" spc="-1" strike="noStrike">
                <a:solidFill>
                  <a:srgbClr val="ffffff"/>
                </a:solidFill>
                <a:latin typeface="Tahoma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609480" y="2362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8000" spc="-1" strike="noStrike">
                <a:solidFill>
                  <a:srgbClr val="ffffff"/>
                </a:solidFill>
                <a:latin typeface="Tahoma"/>
              </a:rPr>
              <a:t>מה עושים</a:t>
            </a:r>
            <a:r>
              <a:rPr b="0" lang="he-IL" sz="8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e-IL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Arial"/>
              </a:rPr>
              <a:t>אם נשתמש בתיק מבד, נחסוך לפחות </a:t>
            </a:r>
            <a:r>
              <a:rPr b="0" lang="he-IL" sz="4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he-IL" sz="4000" spc="-1" strike="noStrike">
                <a:solidFill>
                  <a:srgbClr val="ffffff"/>
                </a:solidFill>
                <a:latin typeface="Arial"/>
              </a:rPr>
              <a:t> שקיום פלסטיק כל שבוע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400" spc="-1" strike="noStrike">
                <a:solidFill>
                  <a:srgbClr val="ffffff"/>
                </a:solidFill>
                <a:latin typeface="Tahoma"/>
              </a:rPr>
              <a:t>זאת אומרת </a:t>
            </a:r>
            <a:r>
              <a:rPr b="0" lang="he-IL" sz="4400" spc="-1" strike="noStrike">
                <a:solidFill>
                  <a:srgbClr val="ffffff"/>
                </a:solidFill>
                <a:latin typeface="Tahoma"/>
              </a:rPr>
              <a:t>24</a:t>
            </a:r>
            <a:r>
              <a:rPr b="0" lang="he-IL" sz="4400" spc="-1" strike="noStrike">
                <a:solidFill>
                  <a:srgbClr val="ffffff"/>
                </a:solidFill>
                <a:latin typeface="Tahoma"/>
              </a:rPr>
              <a:t> שקיות כל חודש</a:t>
            </a:r>
            <a:r>
              <a:rPr b="0" lang="he-IL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49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400" spc="-1" strike="noStrike">
                <a:solidFill>
                  <a:srgbClr val="ffffff"/>
                </a:solidFill>
                <a:latin typeface="Tahoma"/>
              </a:rPr>
              <a:t>זאת אומרת </a:t>
            </a:r>
            <a:r>
              <a:rPr b="0" lang="he-IL" sz="4400" spc="-1" strike="noStrike">
                <a:solidFill>
                  <a:srgbClr val="ffffff"/>
                </a:solidFill>
                <a:latin typeface="Tahoma"/>
              </a:rPr>
              <a:t>288</a:t>
            </a:r>
            <a:r>
              <a:rPr b="0" lang="he-IL" sz="4400" spc="-1" strike="noStrike">
                <a:solidFill>
                  <a:srgbClr val="ffffff"/>
                </a:solidFill>
                <a:latin typeface="Tahoma"/>
              </a:rPr>
              <a:t> שקיות בשנ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Tahoma"/>
              </a:rPr>
              <a:t>זאת אומרת, בערך  </a:t>
            </a:r>
            <a:r>
              <a:rPr b="0" lang="he-IL" sz="4000" spc="-1" strike="noStrike">
                <a:solidFill>
                  <a:srgbClr val="ffffff"/>
                </a:solidFill>
                <a:latin typeface="Tahoma"/>
              </a:rPr>
              <a:t>22,176</a:t>
            </a:r>
            <a:r>
              <a:rPr b="0" lang="he-IL" sz="4000" spc="-1" strike="noStrike">
                <a:solidFill>
                  <a:srgbClr val="ffffff"/>
                </a:solidFill>
                <a:latin typeface="Tahoma"/>
              </a:rPr>
              <a:t> שקיות במשך החיים</a:t>
            </a:r>
            <a:r>
              <a:rPr b="0" lang="he-IL" sz="4000" spc="-1" strike="noStrike">
                <a:solidFill>
                  <a:srgbClr val="ffffff"/>
                </a:solidFill>
                <a:latin typeface="Tahoma"/>
              </a:rPr>
              <a:t>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639040" cy="4151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</a:rPr>
              <a:t>אם בארצנו רק 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</a:rPr>
              <a:t> מתוך כל 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he-IL" sz="3600" spc="-1" strike="noStrike">
                <a:solidFill>
                  <a:srgbClr val="ffffff"/>
                </a:solidFill>
                <a:latin typeface="Arial"/>
              </a:rPr>
              <a:t> אנשים יעשה כך, נוכל לחסוך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31,045,000,000</a:t>
            </a:r>
            <a:r>
              <a:rPr b="0" lang="he-IL" sz="3600" spc="-1" strike="noStrike">
                <a:solidFill>
                  <a:srgbClr val="ffffff"/>
                </a:solidFill>
                <a:latin typeface="Arial"/>
              </a:rPr>
              <a:t> שקיות במשך החיים שלנ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Tahoma"/>
              </a:rPr>
              <a:t>בבנגלדש נאסר השימוש בשקיות הפלסטיק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MSNBC.com -  2007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8 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במרץ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77120" cy="42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Tahoma"/>
              </a:rPr>
              <a:t>בסין נאסרה המכירה של השקיות הפלסטיק בחינם</a:t>
            </a:r>
            <a:r>
              <a:rPr b="0" lang="he-I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asia - 2008 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9 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בינואר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2819520" y="3352680"/>
            <a:ext cx="4190760" cy="2847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אירלנד הייתה הראשונה באירופה להטיל מס על שקיות הפלסטיק ב-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. כך צומצם השימוש בהן ב-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BC Noticias  - 2002 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20 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באוגוסט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Arial"/>
              </a:rPr>
              <a:t>פחות מ-</a:t>
            </a:r>
            <a:r>
              <a:rPr b="0" lang="he-IL" sz="4000" spc="-1" strike="noStrike">
                <a:solidFill>
                  <a:srgbClr val="ffffff"/>
                </a:solidFill>
                <a:latin typeface="Arial"/>
              </a:rPr>
              <a:t>1%</a:t>
            </a:r>
            <a:r>
              <a:rPr b="0" lang="he-IL" sz="4000" spc="-1" strike="noStrike">
                <a:solidFill>
                  <a:srgbClr val="ffffff"/>
                </a:solidFill>
                <a:latin typeface="Arial"/>
              </a:rPr>
              <a:t> של השקיות ממוחזרות. עולה יותר למחזר שקית מאשר לייצר אחד חדשה</a:t>
            </a:r>
            <a:r>
              <a:rPr b="0" lang="he-IL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809880" y="6095880"/>
            <a:ext cx="5105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מתוך העיתון המעקב של המדע הנוצרית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4255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Tahoma"/>
              </a:rPr>
              <a:t>ב </a:t>
            </a:r>
            <a:r>
              <a:rPr b="0" lang="he-IL" sz="4000" spc="-1" strike="noStrike">
                <a:solidFill>
                  <a:srgbClr val="ffffff"/>
                </a:solidFill>
                <a:latin typeface="Tahoma"/>
              </a:rPr>
              <a:t>2005</a:t>
            </a:r>
            <a:r>
              <a:rPr b="0" lang="he-IL" sz="4000" spc="-1" strike="noStrike">
                <a:solidFill>
                  <a:srgbClr val="ffffff"/>
                </a:solidFill>
                <a:latin typeface="Tahoma"/>
              </a:rPr>
              <a:t> רואנדה אסרה את השימוש בשקיות הפלסטיק</a:t>
            </a:r>
            <a:r>
              <a:rPr b="0" lang="he-IL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248520" y="6400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פרנסה אסיציאדה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3330720" cy="35053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</a:rPr>
              <a:t>גם ישראל, קנדה, הודו המערבית, בוטסוונה, קניה, טנזניה, דרום אפריקה, טאיוון וסינגפור אסרו, או עומדים לאסור, את השימוש בשקיות הפלסטי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PlanetSave.com - 2008 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16 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בפברואר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3084480" cy="3657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במרץ 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 סן פרנציסקו הייתה העיר הראשונה בארצות הברית שאסרה את שקיות הפלסטיק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562720" y="6400800"/>
            <a:ext cx="358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NPR.org (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הרדיו הלאומי הציבורי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Arial"/>
              </a:rPr>
              <a:t>אוקלנד ובוסטון שוקלים להטיל איסו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הבוסטון גלוב, מאי 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2007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3059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שקיות הפלסטיק עשויות מפוליטן: טרמופלסטי המיוצר מנפט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tecnhology -  2007 16 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בנובמבר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5791320" y="3200400"/>
            <a:ext cx="3085920" cy="32004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</a:rPr>
              <a:t>אם נצמצם את השימוש בשקיות הפלסטיק, תצומצם תצרוכת הנפט, מקור שלא ניתן לחדשו, ואשר מביא למלחמות רב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4876920" cy="32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676520" y="930240"/>
            <a:ext cx="5943600" cy="59277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74600"/>
            <a:ext cx="8305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</a:rPr>
              <a:t>סין תחסוך </a:t>
            </a:r>
            <a:r>
              <a:rPr b="0" lang="he-IL" sz="3600" spc="-1" strike="noStrike">
                <a:solidFill>
                  <a:srgbClr val="ffffff"/>
                </a:solidFill>
                <a:latin typeface="Arial"/>
              </a:rPr>
              <a:t>37</a:t>
            </a:r>
            <a:r>
              <a:rPr b="0" lang="he-IL" sz="3600" spc="-1" strike="noStrike">
                <a:solidFill>
                  <a:srgbClr val="ffffff"/>
                </a:solidFill>
                <a:latin typeface="Arial"/>
              </a:rPr>
              <a:t> מיליון חביות נפט כל שנה, הודות לאיסור בשקיות הפלסטיק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asia  - 2008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9 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בינואר</a:t>
            </a:r>
            <a:r>
              <a:rPr b="0" lang="he-I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5580000" y="1143000"/>
            <a:ext cx="3317760" cy="4419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זה אפשרי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04920" y="1371600"/>
            <a:ext cx="449568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Arial"/>
              </a:rPr>
              <a:t>יש אנשים שלא יודעים כל זאת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</a:rPr>
              <a:t>אבל לא אתה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כעת אתה יודע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4724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והיות ואתה יודע</a:t>
            </a:r>
            <a:r>
              <a:rPr b="1" lang="he-IL" sz="2400" spc="-1" strike="noStrike">
                <a:solidFill>
                  <a:srgbClr val="ffffff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56386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אתה יודע שגם אתה יכול לעזור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53341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Arial"/>
              </a:rPr>
              <a:t>מספיק לרצות, </a:t>
            </a:r>
            <a:br>
              <a:rPr sz="4000"/>
            </a:br>
            <a:r>
              <a:rPr b="0" lang="he-IL" sz="4000" spc="-1" strike="noStrike">
                <a:solidFill>
                  <a:srgbClr val="ffffff"/>
                </a:solidFill>
                <a:latin typeface="Arial"/>
              </a:rPr>
              <a:t>מתרגלים מהר ללכת לקניות עם</a:t>
            </a:r>
            <a:br>
              <a:rPr sz="4000"/>
            </a:br>
            <a:r>
              <a:rPr b="1" lang="he-IL" sz="5400" spc="-1" strike="noStrike">
                <a:solidFill>
                  <a:srgbClr val="ffffff"/>
                </a:solidFill>
                <a:latin typeface="Arial"/>
              </a:rPr>
              <a:t>תיק מבד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728800" cy="28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1"/>
          <p:cNvSpPr txBox="1"/>
          <p:nvPr/>
        </p:nvSpPr>
        <p:spPr>
          <a:xfrm>
            <a:off x="324000" y="476280"/>
            <a:ext cx="8820000" cy="19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Guttman Aharoni"/>
              </a:rPr>
              <a:t>אתה איתנו?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Guttman Aharoni"/>
              <a:ea typeface="Guttman Aharoni"/>
            </a:endParaRPr>
          </a:p>
          <a:p>
            <a:pPr rtl="1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Guttman Aharoni"/>
              </a:rPr>
              <a:t>או אולי "לא בא לך" 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Guttman Aharoni"/>
              <a:ea typeface="Guttman Aharoni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228600" y="6324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Comic Sans MS"/>
              </a:rPr>
              <a:t>. 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אם לא תעשה זאת, לא יקרה לך דבר . אם תעשה זאת, תרגיש טוב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-252360" y="2997360"/>
            <a:ext cx="8991720" cy="34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</a:rPr>
              <a:t>זכור, אם תחליט לא להשתמש יותר בשקיות הפלסטיק, תמנע ש-</a:t>
            </a:r>
            <a:r>
              <a:rPr b="0" lang="he-IL" sz="3600" spc="-1" strike="noStrike">
                <a:solidFill>
                  <a:srgbClr val="ffffff"/>
                </a:solidFill>
                <a:latin typeface="Arial"/>
              </a:rPr>
              <a:t>22,176</a:t>
            </a:r>
            <a:r>
              <a:rPr b="0" lang="he-IL" sz="3600" spc="-1" strike="noStrike">
                <a:solidFill>
                  <a:srgbClr val="ffffff"/>
                </a:solidFill>
                <a:latin typeface="Arial"/>
              </a:rPr>
              <a:t> שקיות יגיעו   לטבע במשך חייך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</a:rPr>
              <a:t>ואם תעביר את המסר, ואם לפחות שני אנשים יחליטו לוותר על השקיות, עשינו טובה גדולה לכוכב לכת שלנ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49600" y="3263760"/>
            <a:ext cx="24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9536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למחזר טונה של שקיות פלסטיק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עולה 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4000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 $: אותה כמות נמכרת בשוק החומר הגולמי ב- 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$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”.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410120" y="5356080"/>
            <a:ext cx="63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ג'ין בלומנפלד, מנהלת מחלקת ה מדיה הסביבה מסן פרנציסקו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888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400" spc="-1" strike="noStrike">
                <a:solidFill>
                  <a:srgbClr val="ffffff"/>
                </a:solidFill>
                <a:latin typeface="Tahoma"/>
              </a:rPr>
              <a:t>עם כך</a:t>
            </a:r>
            <a:r>
              <a:rPr b="0" lang="he-IL" sz="4400" spc="-1" strike="noStrike">
                <a:solidFill>
                  <a:srgbClr val="ffffff"/>
                </a:solidFill>
                <a:latin typeface="Tahoma"/>
              </a:rPr>
              <a:t>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685800" y="274320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400" spc="-1" strike="noStrike">
                <a:solidFill>
                  <a:srgbClr val="ffffff"/>
                </a:solidFill>
                <a:latin typeface="Tahoma"/>
              </a:rPr>
              <a:t>מה גורלן של השקיות</a:t>
            </a:r>
            <a:r>
              <a:rPr b="0" lang="he-IL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e-IL" sz="44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952880" cy="3718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457200" y="304920"/>
            <a:ext cx="8381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מחקר שנערך ב-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1975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הוכיח כי האוניות הטרנס-אטלנטיות זורקות לים כ-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מיליון ליברות של פלסטיק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מזבלות של העולם לא  הוצפו בפלסטיק כי רובו נגמר באוקיאנו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האקדמיה הלאומית של המדע של ארצות הברית</a:t>
            </a: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37832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133720" y="57150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Tahoma"/>
              </a:rPr>
              <a:t>השקיות מתעופפות</a:t>
            </a:r>
            <a:r>
              <a:rPr b="0" lang="he-IL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e-IL" sz="4000" spc="-1" strike="noStrike">
                <a:solidFill>
                  <a:srgbClr val="ffffff"/>
                </a:solidFill>
                <a:latin typeface="Tahoma"/>
              </a:rPr>
              <a:t>...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762120" y="5943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Tahoma"/>
              </a:rPr>
              <a:t>למקומות שונים בעולם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51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838080" y="6019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he-IL" sz="3600" spc="-1" strike="noStrike">
                <a:solidFill>
                  <a:srgbClr val="ffffff"/>
                </a:solidFill>
                <a:latin typeface="Tahoma"/>
              </a:rPr>
              <a:t>עד לימים, לנהרות, לאגמים שלנו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 </dc:description>
  <cp:keywords/>
  <dc:language>en-US</dc:language>
  <cp:lastModifiedBy>Bianca Schlesinger</cp:lastModifiedBy>
  <dcterms:modified xsi:type="dcterms:W3CDTF">2009-08-01T12:21:13Z</dcterms:modified>
  <cp:revision>39</cp:revision>
  <dc:subject/>
  <dc:title> </dc:title>
</cp:coreProperties>
</file>