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67B-E590-49C4-AA0A-7F6D7A74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CB1-6FB7-4015-A24C-B3566B83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60C-FCBE-4377-857C-4D6E46C6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E23-1133-4885-B615-6E3A0B3F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0A8-F098-4267-B1F5-4C68015D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AEB-5F27-4A76-88FB-62876470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4EF-8B64-4080-A27E-39DD9DA2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FFD-A0C3-4FFF-A122-5DF34E6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93A-1675-4A00-8A7D-3B865CBF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DE4-2323-4544-8CA2-CB7273BB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9B3-4B63-4581-A188-A0A5991C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FF5-2244-4A3C-AF2E-779E482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0E08-BF57-4BE1-97BF-461A8E277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58640" y="-325440"/>
            <a:ext cx="7100640" cy="94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58:36Z</dcterms:created>
  <dc:creator>Sara Zimering</dc:creator>
  <dc:description/>
  <dc:language>en-US</dc:language>
  <cp:lastModifiedBy>Sara Zimering</cp:lastModifiedBy>
  <dcterms:modified xsi:type="dcterms:W3CDTF">2010-04-27T14:22:33Z</dcterms:modified>
  <cp:revision>2</cp:revision>
  <dc:subject/>
  <dc:title>שקופית 1</dc:title>
</cp:coreProperties>
</file>