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110-7776-4823-9204-EDFCFB02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F8F-5536-4DE6-8370-9D5EA6DD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F77-86A0-44ED-973E-0A7801C6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387-4EBE-4C14-AE11-AFA00B68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6B4-970F-41E0-AB2A-65062CEF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882-E7B1-4AE6-996E-7EBB8FA7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D95-7B87-41F3-924A-E0447E32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C91-529E-4509-97B2-45B4A3D9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8BB-79B6-490C-A1F5-4B5506F2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013-2B2E-4ED9-9A35-64CBA398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C96-4406-4221-BC2F-12F4833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FC6-4993-4C7B-A3C7-89E9CDF0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1DC-AB01-4E09-9676-F9EDE6A7C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עיין ערך אהבה: א"ב של זוגיות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21264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עו"ד דון-יחיי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לקח הפסקה מפסקי דין כדי להשתעשע בהגדרו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70028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זוגות מתאימים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דווקא יש דבר כזה, בחנות נעליי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ילדי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צריך להשקיע בשמירת קשר טוב אית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כסף, אגב, הוא אמצעי נהדר להשגת מטרה זו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כסף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560" y="2491920"/>
            <a:ext cx="856908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ן זוג מצליח מרוויח יותר כס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מה שבת זוגו מסוגלת להוציא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שה מוצלחת היא מי שמוצאת בעל כז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ל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מילה שימושית מאוד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צריך לומר אותה - ואז לנהל משא ומת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מזונו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50560" y="2492280"/>
            <a:ext cx="8497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חובה כספי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מיושמת כאשר שני אנשים עושים שגיאה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בל רק אחד משלם עבור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נישואי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813564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נישואים הם מוסד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אהבה, כידוע, עיוור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לפיכך, הנישואים הם מוסד לעיוור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ספרי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0560" y="2205000"/>
            <a:ext cx="856908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מהו הספר הדק ביותר בעול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מה גברים יודעים על נשים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ומהו הספר העבה ביות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מה גברים חושבים שהם יודעים על נשים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עצו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76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קשה לפגוש בבן זוג שמבקש עצ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יך לשלב בין נישואים לבין קרייר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פשר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לחיות עם גבר שנשים לא נמשכות אליו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ולא להיות בטוח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ו לחיות עם גבר שאינו מושך נשים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ולא להיות מאושר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צד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כל מחלוקת זוגית יש שני צדדי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צד שאינו צודק - והצד שלך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קס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-360" y="2565360"/>
            <a:ext cx="878508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בן זוגי הוסיף קסם לנישואים שלנו", אמרה מישה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איך?" שאלו אות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הוא נעלם", השיב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בן זוג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מי שיעמוד לצדכם בכל הצרו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שלא היו מתרחשות אלמלא התחתנת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רווקי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עצה טובה לנשי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ל תחפשו "בעל" - חפשו רוו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שקר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  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8569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היפך מאמ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הדבר שזוגות רבים אומרים כאשר הם מגיע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לרגע של אמ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תקשור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9325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ישה תיארה את התקשורת בינה לבין בן זוגה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חרי הנישואי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שנה הראשונה - בן זוגי דיבר ואני הקשבת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שנה השנייה - אני דיברתי ובן זוגי הקשי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שנה השלישית - שנינו דיברנו, והשכנים הקשיב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גירושי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242100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חשוב מאוד שהגירושים יעלו יפ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כי הם נמשכים, בדרך כלל, יותר זמן מהנישוא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דיבורי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האמצעי השני לתחזוקה נכונה של הנישוא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הראשון הוא שתיקה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הקשב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920" y="2421000"/>
            <a:ext cx="88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תנאי חשוב להידברות בריאה, לתקשורת חיובי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מי שרוצה שאשתו תקשיב לו טוב, שידבר מתוך השינ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525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ויתו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2155680"/>
            <a:ext cx="878508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מציאות הישראלית קיבל המושג צורה מעניינ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עורכי דין יושבים ארוכות עם בני הזוג בניסיון להגיע להסכם ביניה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לבסוף אומר אחד: די, לא נוכל להתקדם בלי ויתורים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שיהיה כבר כמו ש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אנ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רוצ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זוגות מתאימים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יש דבר כזה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עיקר בחנות נעלי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חתונ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83534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בן זוג נבון חוזר שוב ושוב במהלך הנישוא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על המשפט המרגש שאמר בחתונה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הרי את מקודשת לי"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אבל בשינוי קל: "הרי את מחודשת לי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טעויו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2565000"/>
            <a:ext cx="864072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לטעות זה אנוש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להאשים את בן הזוג בטעות - זה ע ו ד יותר אנוש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09:28:07Z</dcterms:created>
  <dc:creator/>
  <dc:description/>
  <dc:language>en-US</dc:language>
  <cp:lastModifiedBy>אורנה</cp:lastModifiedBy>
  <dcterms:modified xsi:type="dcterms:W3CDTF">2007-06-09T09:38:38Z</dcterms:modified>
  <cp:revision>8</cp:revision>
  <dc:subject/>
  <dc:title>א-ב של זוגיות</dc:title>
</cp:coreProperties>
</file>