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Avsenik17.wav" ContentType="audio/x-wav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72A-AA3E-4C14-8C86-078D235C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A84-62BF-4F3C-88F2-3028A4A1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267-5E10-4490-B8CB-100BEFEE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F3B-B7CF-4F48-8D3B-238B47B2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FCE-F4C8-43A6-8172-0DECA52F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042-AFA1-412C-84F0-5EFC12A3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388-089D-468B-A78E-7D9B5708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DC5-B9C5-4491-8B32-AC11E88B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E6C-CF9C-4622-BC48-BDD2357C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307-653F-4AFB-8D02-6DBFC0B4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E5A-767D-4DC1-9977-38618C0B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481-79FA-41F2-9873-0B42021F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A1D5-99B5-4404-9DD2-043E32A10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senik17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i="1" lang="hu-HU" sz="4000" spc="-1" strike="noStrike">
                <a:solidFill>
                  <a:srgbClr val="ff3300"/>
                </a:solidFill>
                <a:latin typeface="Comic Sans MS"/>
              </a:rPr>
              <a:t>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26840" y="66348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3300"/>
                </a:solidFill>
                <a:latin typeface="Comic Sans MS"/>
              </a:rPr>
              <a:t>Ő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5680" y="1914480"/>
            <a:ext cx="162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8000" spc="-1" strike="noStrike">
                <a:solidFill>
                  <a:srgbClr val="ff3300"/>
                </a:solidFill>
                <a:latin typeface="Comic Sans MS"/>
              </a:rPr>
              <a:t>ü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Avsenik17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920" y="0"/>
            <a:ext cx="8802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29320" y="596916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düze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40040" y="0"/>
            <a:ext cx="5263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280" y="5032440"/>
            <a:ext cx="9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sz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r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ág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3960" y="0"/>
            <a:ext cx="535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9280" y="55371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óvirá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63640" y="0"/>
            <a:ext cx="6765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9840" y="56088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Íz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6880" y="0"/>
            <a:ext cx="79488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2920" y="582444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áposztaf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" y="0"/>
            <a:ext cx="9091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51840" y="575316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s ház a préz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0"/>
            <a:ext cx="5433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560" y="532116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lduskenyér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1680"/>
            <a:ext cx="9144000" cy="6792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920" y="582444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lduskenyé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03360" y="0"/>
            <a:ext cx="67406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90000" y="5321160"/>
            <a:ext cx="23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ordonkavers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0"/>
            <a:ext cx="59436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8920" y="5321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örtemuzs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1080" y="0"/>
            <a:ext cx="8781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5080" y="61848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égső elkesered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0"/>
            <a:ext cx="53690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" y="52484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rump-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2240" y="0"/>
            <a:ext cx="87595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60920" y="59691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zt Fere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00160" y="0"/>
            <a:ext cx="7143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280" y="416880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adt 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yed órá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360" y="0"/>
            <a:ext cx="83152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79840" y="5824440"/>
            <a:ext cx="33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rancsbő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0"/>
            <a:ext cx="56037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8920" y="524844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ílusosa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0"/>
            <a:ext cx="7962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02360" y="58975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zab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8880" y="0"/>
            <a:ext cx="8164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96560" y="58244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ojás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0"/>
            <a:ext cx="4846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7680" y="488952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Ütős 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0"/>
            <a:ext cx="81648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02760" y="6040440"/>
            <a:ext cx="20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d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68920" y="645156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0160" y="0"/>
            <a:ext cx="87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0920" y="596916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bárányok hallgat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1080" y="0"/>
            <a:ext cx="8781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6021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ciós zsem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39760"/>
            <a:ext cx="9144000" cy="6618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24560" y="5537160"/>
            <a:ext cx="36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z én csoki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1600" y="0"/>
            <a:ext cx="87393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75480" y="553716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1600" y="0"/>
            <a:ext cx="87393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3640" y="604044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Édesvízi 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5840" y="589752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mi ösztö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4760" y="0"/>
            <a:ext cx="83930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25280" y="5608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Életú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8:50:26Z</dcterms:created>
  <dc:creator>ÚM</dc:creator>
  <dc:description/>
  <dc:language>en-US</dc:language>
  <cp:lastModifiedBy>mari</cp:lastModifiedBy>
  <dcterms:modified xsi:type="dcterms:W3CDTF">2008-01-11T19:05:00Z</dcterms:modified>
  <cp:revision>4</cp:revision>
  <dc:subject/>
  <dc:title>Őrület</dc:title>
</cp:coreProperties>
</file>