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F83-4FE7-42BE-B30B-0ED8A1EB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50764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902-56C0-450B-9F04-7476E80B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28D-A93F-482B-8DE5-FBCCB73B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ED8-5C88-407F-9778-1E833138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C40F-0744-4808-9EE7-C9BD0EEF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B1CD-3D35-4C58-BB93-5B8924A3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2F8F-70E3-4C38-963A-814730F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FF4C-B0EE-4C0A-9CF0-218A0727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0553-1B8B-4055-8A62-713E0328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50796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A396-A143-480F-BF50-C55764D7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FE19-4C72-4444-A22B-098C8C1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556-DB42-4E56-90AD-DFEADA11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53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0FA9-B47D-42FB-A60B-C713DB2C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A1DD-5F9F-4BB9-91A1-BC07DC6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2720" y="550764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EB00-4947-497E-81E1-3D702278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53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0849-27AF-4944-BF84-499648A6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2964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1656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272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2964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1656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8D34-999A-4516-AD08-6AE7601A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B47-B694-4CF8-B4F7-F3720613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C34-29CB-4402-8560-394A8422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324-6B73-429A-A0C6-04C32B86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0796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8F3-D557-4E13-81B5-ECFE9AEC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9EAD-FCDA-4DFC-BA18-1483BFF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9DA-51FC-4287-8E2C-3629E6E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084-7111-4E2D-91D4-DE417BF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CFD1-F336-4B62-AF70-51CFDBBC26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23488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9C2-D793-40F8-9C7C-99152C66EA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727360" y="447660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2080" y="-360"/>
            <a:ext cx="61722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5ffff"/>
                </a:solidFill>
                <a:latin typeface="Tahoma"/>
                <a:cs typeface="BN Cloud"/>
              </a:rPr>
              <a:t>הפנינג פתיחה</a:t>
            </a:r>
            <a:br>
              <a:rPr sz="4400"/>
            </a:br>
            <a:r>
              <a:rPr b="0" lang="hi-IN" sz="3600" spc="-1" strike="noStrike">
                <a:solidFill>
                  <a:srgbClr val="e5ffff"/>
                </a:solidFill>
                <a:latin typeface="Tahoma"/>
                <a:cs typeface="BN Cloud"/>
              </a:rPr>
              <a:t>לקואופרטיב האורגני</a:t>
            </a:r>
            <a:br>
              <a:rPr sz="3600"/>
            </a:br>
            <a:r>
              <a:rPr b="0" i="1" lang="hi-IN" sz="2400" spc="-1" strike="noStrike">
                <a:solidFill>
                  <a:srgbClr val="e5ffff"/>
                </a:solidFill>
                <a:latin typeface="Tahoma"/>
                <a:cs typeface="Guttman Yad-Brush"/>
              </a:rPr>
              <a:t>מפגש קהילתי של עשייה והנאה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65360" y="2410920"/>
            <a:ext cx="4292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25360" indent="-22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cc"/>
                </a:solidFill>
                <a:latin typeface="Arial"/>
                <a:cs typeface="BN Bilbo"/>
              </a:rPr>
              <a:t>נצבע, ננקה ונכין (את המתחם בו יפעל הקו אופ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cc"/>
                </a:solidFill>
                <a:latin typeface="Arial"/>
                <a:cs typeface="BN Bilbo"/>
              </a:rPr>
              <a:t>נכיר, נריח ונטעם (ממס' מוצרי הקו אופ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cc"/>
                </a:solidFill>
                <a:latin typeface="Arial"/>
                <a:ea typeface="BN Bilbo"/>
              </a:rPr>
              <a:t> נשב, ננוח, נדבר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79640"/>
            <a:ext cx="65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ahoma"/>
              </a:rPr>
              <a:t>יום שבת,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9/11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בשעה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משק תפוחי, מושב בית נחמי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9785000">
            <a:off x="0" y="2123640"/>
            <a:ext cx="3033720" cy="2305080"/>
          </a:xfrm>
          <a:custGeom>
            <a:avLst/>
            <a:gdLst>
              <a:gd name="textAreaLeft" fmla="*/ 0 w 3033720"/>
              <a:gd name="textAreaRight" fmla="*/ 3034080 w 3033720"/>
              <a:gd name="textAreaTop" fmla="*/ 298800 h 2305080"/>
              <a:gd name="textAreaBottom" fmla="*/ 20062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ccffcc"/>
                </a:solidFill>
                <a:latin typeface="Tahoma"/>
              </a:rPr>
              <a:t>לילדים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ccffcc"/>
                </a:solidFill>
                <a:latin typeface="Tahoma"/>
              </a:rPr>
              <a:t>- אפיית פיתות בטאבו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ccffcc"/>
                </a:solidFill>
                <a:latin typeface="Tahoma"/>
              </a:rPr>
              <a:t>- פינת  יצירה מהטבע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0640" y="5003640"/>
            <a:ext cx="5759640" cy="147240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בהפנינג תהיה אפשרות לקבל מידע אודות הקו אופ ולהירשם (לאחר ההפנינג דמי החבר צפויים לעלות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 u="sng">
                <a:solidFill>
                  <a:srgbClr val="000000"/>
                </a:solidFill>
                <a:uFillTx/>
                <a:latin typeface="Tahoma"/>
              </a:rPr>
              <a:t>הכניסה חינם לחברי הקו אופ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. לאורחים- 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₪ למשפח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6280" y="7236000"/>
            <a:ext cx="2881440" cy="124128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</a:rPr>
              <a:t>הוראות הגעה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</a:rPr>
              <a:t>מצומת נבלה נכנסים למושב בית נחמיה. משק תפוחי הוא המשק הרביעי מצד שמא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991800">
            <a:off x="3860280" y="7019640"/>
            <a:ext cx="2519640" cy="1079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336699"/>
                </a:solidFill>
                <a:latin typeface="Tahoma"/>
              </a:rPr>
              <a:t>נא להביא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336699"/>
                </a:solidFill>
                <a:latin typeface="Tahoma"/>
              </a:rPr>
              <a:t>מברשות צבע / רולי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9:38:45Z</dcterms:created>
  <dc:creator>user</dc:creator>
  <dc:description/>
  <dc:language>en-US</dc:language>
  <cp:lastModifiedBy>user</cp:lastModifiedBy>
  <dcterms:modified xsi:type="dcterms:W3CDTF">2008-11-23T21:41:20Z</dcterms:modified>
  <cp:revision>3</cp:revision>
  <dc:subject/>
  <dc:title>הפנינג פתיחה לקואופרטיב האורגני</dc:title>
</cp:coreProperties>
</file>