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C2DC-0F0B-44C2-9D09-A30D83C7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1E1-0001-4CAF-AB6E-0CAF4E65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D35-55B9-41C1-A48B-18AE879E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C299-41E2-46F4-86D5-42AF8B71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D882-DE93-404E-8D2B-96C9B519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86D-B77F-4AE3-BD26-CB559F8C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CF8-5428-4EFD-847A-9490F296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C78B-28A3-4F5E-9BDA-AEFF6CCA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A7E-6A79-47C2-9476-CA441AB3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097-FB51-4215-B61B-EEE98EF7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706-2B06-4F0F-8794-A17D88AE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01F-4636-43C5-80F8-C68A1ED9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BDD2-C28F-4B9B-B966-B8A8E2924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8:52:33Z</dcterms:created>
  <dc:creator>amit</dc:creator>
  <dc:description/>
  <dc:language>en-US</dc:language>
  <cp:lastModifiedBy>amit</cp:lastModifiedBy>
  <dcterms:modified xsi:type="dcterms:W3CDTF">2009-03-25T18:52:43Z</dcterms:modified>
  <cp:revision>1</cp:revision>
  <dc:subject/>
  <dc:title>מצגת של PowerPoint</dc:title>
</cp:coreProperties>
</file>