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294-5E33-4C64-B27B-67DABD94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96D-E168-4420-B4A9-C03E9A54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2A3-BBE9-4BED-B860-8F8796B0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E2A-886F-4D2C-94D8-1C51D550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1E5-6C79-4F81-97D7-EC3E63DC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BC0-D4CF-4323-9DF8-D715342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3AB-30F4-456D-87C6-7CC0149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0BF-AC50-4FC8-9092-82BD832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19B-FFA6-4D58-8124-DB1262B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09F-3EF1-4C3A-8B3E-8AFA186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1F7-B768-458E-BD84-29C2DE8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2CE-68CD-499A-AFC9-736880A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82FE-08C6-4C25-8F13-20ECADC7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5:35Z</dcterms:created>
  <dc:creator>amit</dc:creator>
  <dc:description/>
  <dc:language>en-US</dc:language>
  <cp:lastModifiedBy>amit</cp:lastModifiedBy>
  <dcterms:modified xsi:type="dcterms:W3CDTF">2009-04-02T07:55:43Z</dcterms:modified>
  <cp:revision>1</cp:revision>
  <dc:subject/>
  <dc:title>מצגת של PowerPoint</dc:title>
</cp:coreProperties>
</file>